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47.png" ContentType="image/png"/>
  <Override PartName="/ppt/media/image10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35.png" ContentType="image/png"/>
  <Override PartName="/ppt/media/image26.png" ContentType="image/png"/>
  <Override PartName="/ppt/media/image63.png" ContentType="image/png"/>
  <Override PartName="/ppt/media/image28.png" ContentType="image/png"/>
  <Override PartName="/ppt/media/image25.png" ContentType="image/png"/>
  <Override PartName="/ppt/media/image62.png" ContentType="image/png"/>
  <Override PartName="/ppt/media/image61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20.png" ContentType="image/png"/>
  <Override PartName="/ppt/media/image57.png" ContentType="image/png"/>
  <Override PartName="/ppt/media/image5.png" ContentType="image/png"/>
  <Override PartName="/ppt/media/image1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1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notesMasterIdLst>
    <p:notesMasterId r:id="rId28"/>
  </p:notes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  <p:sldId id="265" r:id="rId38"/>
    <p:sldId id="266" r:id="rId39"/>
    <p:sldId id="267" r:id="rId40"/>
    <p:sldId id="268" r:id="rId41"/>
    <p:sldId id="269" r:id="rId42"/>
    <p:sldId id="270" r:id="rId43"/>
    <p:sldId id="271" r:id="rId44"/>
    <p:sldId id="272" r:id="rId45"/>
    <p:sldId id="273" r:id="rId46"/>
    <p:sldId id="274" r:id="rId47"/>
    <p:sldId id="275" r:id="rId48"/>
    <p:sldId id="276" r:id="rId49"/>
    <p:sldId id="277" r:id="rId50"/>
    <p:sldId id="278" r:id="rId51"/>
    <p:sldId id="279" r:id="rId52"/>
    <p:sldId id="280" r:id="rId53"/>
    <p:sldId id="281" r:id="rId54"/>
    <p:sldId id="282" r:id="rId55"/>
    <p:sldId id="283" r:id="rId56"/>
    <p:sldId id="284" r:id="rId57"/>
    <p:sldId id="285" r:id="rId58"/>
    <p:sldId id="286" r:id="rId59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notesMaster" Target="notesMasters/notesMaster1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slide" Target="slides/slide10.xml"/><Relationship Id="rId39" Type="http://schemas.openxmlformats.org/officeDocument/2006/relationships/slide" Target="slides/slide11.xml"/><Relationship Id="rId40" Type="http://schemas.openxmlformats.org/officeDocument/2006/relationships/slide" Target="slides/slide12.xml"/><Relationship Id="rId41" Type="http://schemas.openxmlformats.org/officeDocument/2006/relationships/slide" Target="slides/slide13.xml"/><Relationship Id="rId42" Type="http://schemas.openxmlformats.org/officeDocument/2006/relationships/slide" Target="slides/slide14.xml"/><Relationship Id="rId43" Type="http://schemas.openxmlformats.org/officeDocument/2006/relationships/slide" Target="slides/slide15.xml"/><Relationship Id="rId44" Type="http://schemas.openxmlformats.org/officeDocument/2006/relationships/slide" Target="slides/slide16.xml"/><Relationship Id="rId45" Type="http://schemas.openxmlformats.org/officeDocument/2006/relationships/slide" Target="slides/slide17.xml"/><Relationship Id="rId46" Type="http://schemas.openxmlformats.org/officeDocument/2006/relationships/slide" Target="slides/slide18.xml"/><Relationship Id="rId47" Type="http://schemas.openxmlformats.org/officeDocument/2006/relationships/slide" Target="slides/slide19.xml"/><Relationship Id="rId48" Type="http://schemas.openxmlformats.org/officeDocument/2006/relationships/slide" Target="slides/slide20.xml"/><Relationship Id="rId49" Type="http://schemas.openxmlformats.org/officeDocument/2006/relationships/slide" Target="slides/slide21.xml"/><Relationship Id="rId50" Type="http://schemas.openxmlformats.org/officeDocument/2006/relationships/slide" Target="slides/slide22.xml"/><Relationship Id="rId51" Type="http://schemas.openxmlformats.org/officeDocument/2006/relationships/slide" Target="slides/slide23.xml"/><Relationship Id="rId52" Type="http://schemas.openxmlformats.org/officeDocument/2006/relationships/slide" Target="slides/slide24.xml"/><Relationship Id="rId53" Type="http://schemas.openxmlformats.org/officeDocument/2006/relationships/slide" Target="slides/slide25.xml"/><Relationship Id="rId54" Type="http://schemas.openxmlformats.org/officeDocument/2006/relationships/slide" Target="slides/slide26.xml"/><Relationship Id="rId55" Type="http://schemas.openxmlformats.org/officeDocument/2006/relationships/slide" Target="slides/slide27.xml"/><Relationship Id="rId56" Type="http://schemas.openxmlformats.org/officeDocument/2006/relationships/slide" Target="slides/slide28.xml"/><Relationship Id="rId57" Type="http://schemas.openxmlformats.org/officeDocument/2006/relationships/slide" Target="slides/slide29.xml"/><Relationship Id="rId58" Type="http://schemas.openxmlformats.org/officeDocument/2006/relationships/slide" Target="slides/slide30.xml"/><Relationship Id="rId59" Type="http://schemas.openxmlformats.org/officeDocument/2006/relationships/slide" Target="slides/slide31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dt" idx="2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ftr" idx="2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6"/>
          <p:cNvSpPr>
            <a:spLocks noGrp="1"/>
          </p:cNvSpPr>
          <p:nvPr>
            <p:ph type="sldNum" idx="2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BA7D40-8CDA-497E-B682-9C22EA9850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9313D8-4B63-4227-B18A-91E4B6BF222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6C1C5E5-FFA5-4BC4-88FF-985BF79C4C8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64F423-42AC-4309-926D-06818B428F6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F0C26C-3ADF-4E2D-AE13-F2043EE269E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CD3A04B-A1BD-40FC-932E-8F3F065FF76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138E635-BC52-4B08-BE89-C2CFDC4EA6D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38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DFAB24-BD28-4F6B-B576-F4EF8F23EB7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3FDF3D-8C9B-4CFB-A35E-AAB55646BFB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2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B2C7402-E470-4FA0-A5FA-22FCC256081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1A5F7D5-42C5-4EBA-93B5-39ED4C02A94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846F54E-D2D9-4786-851B-01D94E96FB8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5F1B8CB-DDF6-4D97-A631-0B2CEC2FCE8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940B988-5E70-4BD2-9B01-63636DCB5B2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EAFAE91-3E19-49A1-9153-09712DFC45A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128CD0B-AF53-4634-A16C-97E3B9D023F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36A964-1574-4632-80E0-5828DEFA609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BE9BD7-4DD5-4EF0-AB87-3884B7F632A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19D4955-F364-406D-A57C-7F63BE23FCA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450974-FBDB-4B50-A008-AD3E382D114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reate new site and import WQS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doc lib, pointing out things of interest: website metadata, folder structure, collections, section template confi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dit the port number for the editorial site, and remove the “isEditorial” fla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the website: into each section – blogs l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ake a look at the data list(s) that have been created (empt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ost a comment to a blog post, show it appear in the data li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ack to site – show the comment on the blog page (including coun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oad a new image into the news section (Koala) – show the rendition definitions for the news s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ind a news article on the website and point out its image. In Share, edit the primary image of that article to be the Koala. Show the change on the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to Share. Add a tag or two to some news art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nto site: show the tags appear on the articles and the tag roll-up on the news landing p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nd a “contact us” requ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 contact us request in the data list and the workflow task in admin user’s task li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ublish section structure some example articles (blogs?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m appear in Share and on the “live”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CEA37E9-DFE8-43EF-BB1B-5DCE689328F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7E116E-2719-4B2A-ACC1-B7546A061F5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E12DCF-CD09-45CB-B80C-CFA6BBBAD60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8E4FD0A-E89C-473B-B741-F7463FAC53E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8203BA0-32F9-449F-9314-954E0E2CE38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9308C72-9B77-4C8F-B0C0-308514B7D22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AB341A-7096-4FDA-A9C4-84639BA346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6CE4F0-33D4-46C8-BF82-E39392E31977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D927DF-BC22-4283-B25E-8379945C086E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B4CD7C-8B85-42A7-8CCB-872D06E65F37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71E7D8-03E6-473D-9C4D-7BE664279939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7600AE-259A-4E05-8A12-A58B4906A179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8007CA-426E-4E99-B858-0271904F624C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CA6E34-0A67-412F-A1D5-7F9E88FEA7FD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F98D66-7A05-4A18-99AF-7D92F1E42D83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0B62FE-EF3B-412C-B6EA-8D333F997F94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A82998-9B38-4923-A1F6-B50684B5186C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F84A91B-C7F3-48FF-9D62-54FD5F1D02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41C1D0-03F5-4A59-B6E4-095596B87E63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A3ACD05-A651-465D-A0A8-79B1B28EEE27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AE8020B-0AAD-4C66-9449-6A8D1FEB994B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CB5C6D7-5BD0-4C01-B392-BDD49956BF24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25C7BD2-A520-4C5D-9E63-C76E9A68D03B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6D11EEC-50C5-4F1E-B8FD-F48987554610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EBDA724-3F91-4372-AA0B-5ADFF2F0D93D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1E88B55-FED0-490D-88D7-2561144186D3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D9F7E5A-C4E7-4230-A7A5-2505E3C4C03C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826504E-3BBF-42AD-A4DA-24DE764EA7D0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F5183DD-2B22-4771-911C-F959CD7A1B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EAE528-5591-47D2-A2A8-0D2B04BB049D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FEA2817-DA25-4599-8738-337CD1B783F7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F4CD031-BF02-40F7-BAEA-AE4C6DBDA0D6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E7125F6-0872-489E-B4F6-4307FA8AFE55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1D644C5-0949-4EF4-92D3-30270B2EFBF5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5FA8C9F-A299-4390-9CDB-089D083F12B0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1903671-4D49-49A9-93F7-CD695DB8E354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97B0CAD-FDB2-4852-B811-13AA9C5DA550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7AA1C61-C224-47FD-8C85-E92CF086C4CE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D4A5414-64B6-4879-935B-CB9271220871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433EB6E-C964-4882-A92D-9C6E3E3735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35F07D-B22C-41FB-812B-41A10BCE9D57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52E77C7-3082-4140-8D74-2CE16A8A4457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9831AE3-C645-4F03-AF9B-CC2DC79DA43A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4EB25E8-2BA3-41AC-97CA-DE2E7D446B96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2B5BE7-31AF-42CF-901B-E5B4C237C99E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E0C51C-EBE3-4C89-858F-4DC52E922CCE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A28241-C91B-4565-8FE4-BF1B2649FB44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6C4C61-FC55-4C34-818B-10820A549F9E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DE940C-E9E5-445A-86A0-CC203B0FE8C1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69B218-3D23-49B4-B99A-4DAEDD1D0E52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9CF732-8009-4C38-9CAB-0D2D2FD3B13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0F759A-C94E-4289-B8F4-7108E9AE7DD6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1F94AD-A9B6-42B1-A7CB-5C1FDF054A61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44980E-BB79-43C4-AC93-D5A4643766B4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8F5CA9-8B5A-423C-9B70-FB9402B8710E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9F320D-BBA8-45A2-A88A-EFBDE9F777F0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9594FC-935F-46DF-B816-E9FE63B3B5BF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5C6EE46-E779-4451-A3B9-61E7CA280C01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C807D48-D6E6-4D18-9766-1B8879208AB9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B904975-CA84-49CE-A0C9-8C1DEF4BE78B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DAD73D3-B28E-4149-916C-86EAF699DD9F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0BB359A-F4EB-4FAC-849D-D82ACF27018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8D5F6A-F8AF-459A-9DAB-A7637D25A94E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6EA0035-BE46-4EE3-962E-92488C1355A8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267B3FF-6CFB-420E-8998-C915A3C5F523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B8B27EA-27DC-4F29-B330-F8B505DBD950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B741D22-8FF1-43D6-9FE9-2E835C7BD0BE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DD2F09F-BA99-4566-9DA9-BC1C176E30EB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A73CA18-794E-400A-B664-B5281F124D2A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7F3EA68-FA08-4B4C-8048-29685EC52834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98C7D36-06A7-4BD9-B698-6F9E53E147AB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73E5395-8546-4F3D-BEA1-CF036487BB55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0D6229D-9E4F-4F3A-A787-B172C66D858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8AF3E8-60B9-4800-854D-E942CEC88A4A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467D16F-B77C-4E6D-B095-20663368C217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BB8A955-65D6-4AD3-A6FB-851461ACEBDB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FF9616C-2128-48AA-94C9-BA744AF45970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EA35AEB-257C-4A18-B0ED-45A8C4A43935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00476A5-EC12-49D2-800D-A749AA2FE8B2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C895965-8407-402E-BB6F-F8967A2432CA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876DD5C-D02E-4964-8D72-CC2A8D07F368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809709E-E5F2-47DD-82D8-740C0B9C71F8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81DAD5E-106B-4F12-9925-0D66284EE91E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69DEC8-4145-43B0-BBC3-34530728BAB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E6600E-C9D9-438B-A14F-AF6AD6001308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63BFC1-20D5-4708-9256-B946B4F7A10E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D5050B-11CC-4C22-94F0-E9C8A991979F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978164-85D4-44A6-9B18-4B7572FB7B76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2F64FA-B808-43F1-9EA4-82FE2EF39252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161AD7-EA41-450A-AA5F-1D8EE96C529A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AC6079-157D-4D40-854E-16E90C451731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B92CFD-2E27-4F64-AA0D-60311951F866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8DB1BB-CFAF-4A29-8938-F43030286AD0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F9FAA1-6B48-4A93-8F3A-AF22257180D5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1FA2E5-2753-4294-827D-A303B319F5B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CE44FE-E270-49A0-8697-A36EE7555AAD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873736-CC68-43F7-881D-DED9BC54C225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DB54949-BB89-4A1D-A3A8-E3FD8A56018C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01A4883-75B1-4A61-B43C-37F6EC72F2E7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FCB03E7-74F3-4CCB-83A0-CE01C88A7696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F31E3AC-43DA-4CCA-81CC-8EF2C7E319DD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75CF87A-DF32-4117-B458-981C1A397F6D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B70AF0A-342B-4ACF-8BFD-9589E6D3408B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01D9FB1-EEB0-47A9-8540-21BA82A8187A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85AEE0D-0CF1-4D2C-B437-80A017CAF893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F6D2ED2-E5F6-4192-9031-FC11F44BE40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F41026-696C-4E7B-9381-611132C20412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7AF8032-9924-42B0-9DB2-436E8A8847F6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8C3E88B-041D-45E4-A379-6D25C74990D4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7983F9D-0F8F-4FB1-859C-D8D59F77742E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3E72DB1-6F0E-4578-B250-9A685074019A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76D0656-5655-496A-924C-861B870EFC27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ECE6FE2-C408-4E11-82C0-5444E928256C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E9B135E-8A5F-45E7-8562-CFC64D69C482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8361984-66B7-433F-BB98-ED9D865D1169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60D349A-3987-4A51-98C3-6F19D9C4B3FC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267229C-086C-43CD-9730-F0592A7BD8C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21B4A-E095-4521-A2BE-1243C1AA30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0F683F-2961-4928-891B-BD4CBAAC84D1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D6A2201-6EB0-426F-BC3E-6C47DF8B69FC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1D19489-19D2-40C0-AEA0-7415D05BE7B3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24EA2F6-853E-4680-87F7-CD7A9A44BA62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9752179-F953-4088-95E4-E6FC77DD8478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DC2882C-07C5-45E0-BDDD-557DF213F755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A34F8B-89BD-4A23-8EEA-3B3E11B2BF79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F95C36-00B3-422C-B901-7BFADC101D90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E7748E-E6C5-49D9-B2CF-2CE6A1F21727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F59638-AD50-4ED9-8B39-D6B8531BF50C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CA62F0-3ACC-40C2-B112-D8E135FA02F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720D87-E5AB-423F-AD74-52ACA8FC07DF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68D0E5-7773-4826-A819-8548B4D6C766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33C7F8-B831-4722-B2AF-1FF56F941E4A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1D4F0E-7002-449F-AD4E-760314B17426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243BAD-A8C7-4A78-8610-564D29F65901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DB2A1C-1C85-400E-961E-9210E5F9AE05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884480-5DD9-470C-8DB5-3A279FE21969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1296C2-5522-4BE1-9944-8E358E8E76E5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AA85F05-1DA9-41D5-9DEF-890D1DDAB537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F73F03B-5724-42FF-B562-6153C025A961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40E2F60-7CA2-4044-A4DA-FDAD88AE801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2351D8-8ED8-4E79-AB77-8EB2342A1E94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A47EFBE-D425-431A-BD9D-F772C33DB88A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D8558B7-B06B-4652-848A-FB65CCE568E7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C14EB70-2B59-49F3-BE73-3377A88BE1FD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96CD882-C77E-4DC3-8007-F34A94DFE7BE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1E59486-AC91-461E-B1A4-143DA3DAF25B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BC761D9-C226-4768-B9B3-0D8E581F6525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A94BADA-8E2D-4087-BA46-7149C51F232D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A2714C3-168A-42B3-AE45-671D3A60B98F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A95F5D1-9374-449B-B5EC-480C6BBEE4F5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4087711-AEF9-4474-BA75-2D2053FAC88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E1C31D-43DB-4571-9408-D259739E2FD4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B61D04C-1E9E-4EEE-AF4A-908D2CA9A537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00D66FF-8CC3-47B8-AFFE-FE9A3C3B2027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EED9514-6F67-43F7-9AC8-B29E697F395B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9E2925B-6CBF-425E-B29A-3608184446CD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BF40391-15DA-4945-B4F3-DBF7049AAFE2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E714000-5C71-453E-82F8-FE23DAD59145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52C4207-F0C1-4175-9CCE-EBEFE4922C18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B82F3D7-3691-453B-9469-7F542E9AFF2F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2F61A45-F72C-497A-8040-5D8721A4F886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548D2C3-99DE-4872-B2D2-C02C980CDE1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D01AEB-C375-4522-9E80-F1DCD9345106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08300CC-6C08-4F12-81CD-2EB111325535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36CE31-ECEB-489E-AE77-0008CB4F1899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361074-9567-41BE-A1A8-B69F59D29FA9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E78532-4412-4442-8DA5-F4E04E82F6F6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B8DE43-31CE-4FCD-A3C4-BCA1CF453F2A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D1C171-CF0E-474A-A9B6-D4FA7E8DD5D8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C64C7A-D2D1-47E3-88FA-58AEAD21444D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479BCF-4CDA-4C60-A498-6947765DB690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11E0FA-C19A-401D-9552-757DADA76150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0654DB-EEF5-476A-ACFE-C55262642741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3B2E9-D643-4AF2-B354-B560C906C033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058BCA-7A33-429C-B251-0CE903F6BE39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B313A7-0455-44B4-A159-BBF274B38181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1037D2-636E-4872-BD8B-00F171153EC5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F702596-7AD8-4FA3-9BA6-DB8E80459550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B4D47D2-99D3-40A6-98AB-06514C413AD4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BFD1588-41CD-4A41-92CD-6EBDB028E3F9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E121BA3-BDFF-4574-9DBE-7E14264BEEC0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941799C-A7B6-4747-B7F1-D9B6C6B8D18E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485CD13-5FF7-42E6-A79C-2E3EEBFFF82E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D8CE1BC-A4F0-488E-8CC3-BF3392C5F31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9CAC4-D21F-41E8-AEE7-B8D676CB933A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B5FF47D-2B23-470F-BD6E-C383F17EE706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B289DA9-5E9B-4B48-9A7B-4D9395BF844D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C7DF487-FBE4-443B-8258-76C18AB65E14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E012986-D7BB-4DE9-9766-1382E90A802D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6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7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74841C7-C991-45F7-B2B2-8F9DA4C0FA77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05C1074-9AE9-4CAB-9DDA-3FFF3A9DF28F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053AA7C-0084-4A3B-8FD3-2B11816E9F67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01DF592-1E8A-453E-A951-C41CAEB586DC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48C9D35-7A51-4032-A640-31616EC2D86D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BB494D0-FD37-4913-97EB-7CDBAA29C2F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C88F7-D3FF-4E87-BF78-CAAEE2EDFA37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4D6686D-1749-4D1B-8D80-8B12A1D59BC5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6EA5F3C-B712-46C3-8CA1-C3616EDFC707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AAD3740-7B8B-4DB8-9914-F86E086E3B96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0154DBB-FEAE-4612-A4DA-F84D90C20DA3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F72CAEB-4B4D-4A89-93E1-9D34435AD189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BB504BC-97BC-4BF5-89EA-A69E64CE6953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4E034E4-2856-4DF4-AC38-1941A6B6966C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9CCEF3-B292-463D-B398-87C3550EE711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962813-CE5A-4F7B-A4AA-3BD2515DC412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01C460-5F68-435D-B5B1-C3E72901135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A1F78-C268-4DCB-B139-5EDD147E1068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EFE58B-2E35-4B04-B1AF-7BF06CDE42D6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086F17-83E5-42B1-9A5F-2CCFC1BCB321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BAC3FF-C559-4BB6-AF0B-0792DCFBE0C3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FA8201-C4DD-4DB7-86C7-803689365E57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BAFE5F-D9CA-4490-AC63-25DBF1ECCCDA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32C0DA-605A-42D0-B739-7FDA75438C56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D7C78D-490D-47E6-B022-CD85F03F4805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D60A09-A26C-4460-A0EB-B6AFD1CEC8F6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670290-25E0-45D1-BABE-D4D3CFD3D663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53D517F-382A-4FA3-98D4-963958D9AB9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C4695-3F2A-4054-9C1D-602D13F763A1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ED38B65-0B71-464A-A4DB-E3326A03AE04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18570A1-A9F8-47B1-972C-AD627F7E40B3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A6E75E7-1368-4518-A59B-1F826BB8D584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B0EA173-D61C-469F-99F0-802595D9B68E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0DE7546-E61D-4F6E-A3A2-B9EEE50C496D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AEF5637-5329-4FB4-8F5B-E4F7CAB76805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A291F92-8980-45F9-9476-DD7424F57405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698CA1E-3FA1-473E-B032-EFD1635AD53B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8683679-E740-4D4E-93F4-33AAB8D9501D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664911B-4AC7-481F-B958-2A3D08321E3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C87BA6-D77C-4EFF-8B0F-83207B9EF1E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53861-39EE-4516-8B79-B520D4A6A740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E0FEB33-64E3-4976-B7AC-20D0FAD1A04E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97512AE-470E-455F-AA05-42D3D8126F5A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658F60F-3EDD-490A-8DFA-852AFC3FF205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94CC90B-D7B9-4E00-A2BB-45DDDBED2462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F6ECFC6-5D67-43FE-8752-C52895428408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1BF6D23-1CF2-4AC0-9B11-557C28AF2A39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C006888-5308-4BAD-B878-042741C7874E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E45D097-E392-494D-BCEC-29E5E7881CCB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E4ED220-2567-488C-87B5-BEC28ECC07D1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E08C0D5-241D-43B0-96A0-85DAEC1F00E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EF408-F6BC-44B8-ACC6-90A71DCBA932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99C8FEC-31B6-4C8C-8EAE-11946D86C0EB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26539B5-8BD5-4FA8-9B6B-5001817F7314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3F08C19-95AD-4F66-8289-22642E4B9DF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52FCF-49D8-4312-9C00-1CD433470A3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265B0-2D42-437B-ADFC-FEFE9313E2D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6BC8B-8A0E-42EF-9869-DB70FF19392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E6D9B-4F7F-4C8F-98CF-988C6B0ACCF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38EB2-AF5D-4124-B434-4E8F506587A5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80A9E9-C349-4CF7-96DB-DD0011837938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63982B-46AA-4C08-9A96-CCAC3A2B39EC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C4EDE5-5D04-4AAF-B4CF-5A6B18798B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5C6BBC-BB05-434A-BF49-C278453F09DE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05C23C-CC82-48A9-A849-D8FA4B5EEC09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D2A0E5-D7D3-467D-9FA8-E831BE1FBBF4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AE80C5-386A-4CFD-B45A-7A06BBFEF309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AD0A47-6CE9-4582-9DFB-41D3F41B8BDC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70EE6F-ED10-453F-A251-A1D6F54B4AA0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D74546-2D28-4482-9DC8-05A9A0B15EC9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CF00EC-E8F7-4D62-87A8-563FA631E097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A39C39-A480-4788-9B20-AC003B60C4D9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A68644-B9CB-42D2-8F0B-8F0A879C17C5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6961F7-3EBD-4828-8C7F-D73A03FD0C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63E7A8-3CB4-4155-8476-224DAC3B8CFE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7793FB-27A6-4953-B28D-C46796936F72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E27CBC-EA9D-43AD-B9E1-AF8721747561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C271AE-3051-41A0-8F65-A487E6E1B22B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62D166-42A4-491C-AE0A-022B094B15BA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08FDAE-1670-4D8E-811C-EB0DAB461F6C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9850C0-33F3-4661-A498-83E2C5631744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AC43D6-809C-43B9-8E6B-73BC14A4DA16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8B0EB4-B29C-446E-A1B9-3CF7241151CB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9AC42E-9405-4918-840F-4F4F2FDED452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6F4002-70A9-44A9-ACCB-91E3A1D7A6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465980-B71C-4AA1-AC6C-7B7299B971E3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C3891F-EB4F-44E0-830F-B323A399ACD9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ABFEE-6564-428C-B6B3-DAFD17967509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491CF-0B07-4FFC-BCAE-A14E81EDE649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31D33-D5CD-4C8D-B9E9-CEA4E99CA934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ED8AC-88FD-49F4-B9EC-87D0D8A4E610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2F8B2-8E0E-4E27-9C57-85ABFC97889E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8E919-2E04-4F17-8E3A-81BE8F0C6711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B0BB7-BCC6-4425-848A-C4EF930AFE73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81733-9B1B-4228-9510-D067695C7BE7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57B9C-EA96-4EA5-86C6-29F6772D02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92AD13-AA12-4117-84BA-477A18764A36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2B1C6-C5ED-4939-B88E-4DFEBF4B0069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EE134-9302-4304-B28E-D0A9B9272C9F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8F6B2-A821-4467-AF8E-0207DD879FD4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88981B9-F6AE-4DB5-B1BE-8E2736E613EE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8DAAEB9-5003-409F-A3E1-DD97A9E09049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924B422-0A5B-41A1-AFFE-C9FE069C7DB0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C011091-7FB2-4711-93EE-E1E981F51F54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0FF4791-A31D-4C5B-BE95-4946BA45094F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C91BC3D-A0A1-4458-A40C-8C58D2E33E28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D2BF75C-5A98-43EA-8DFC-D8451AD1CC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CB127E-D0C9-42CE-BB70-00BE44DAC029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3EFC2E5-EB36-4E18-8025-ADA4B74D4117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774A34B-9AE3-40C5-BD0D-5F1276E08B60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5E20FB0-01A3-4E17-AECA-79D84CAF7B1D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95DDF35-601E-4199-8C37-835696E92574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1D9AE74-9265-4167-B6E5-B53F5B8A0F3D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70580C9-D81E-4155-B931-A8C7AB48154D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E424FD6-8AA5-4CC0-A8C6-8FB2894338D3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AF1AFB1-FC18-4C7D-A9C9-BD593BADB656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6CA66A1-A506-452E-A067-F63E106853F7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F8D0BDF-B932-44CC-81F1-DF64C8A8FB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02C605-0A73-46A6-AEA8-7F8EE40626AB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428E166-BB08-45BF-BEED-3D26709E8A05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E87B339-5E0E-41AD-A4B3-4B0DB3E6E65D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290DB2C-012F-4DDF-AB79-59AB0FBCACF8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3F2DA9B-4828-4B1A-AA70-05705D443532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4932B53-A614-43DD-A8D3-91ACB4830B6E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1D746C-B45C-494E-AB34-40BB15DCB455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F287547-98C2-458F-A934-3954A3CE1947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EED71A-8D67-444A-BC89-FBC87FF2AC8B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F04F80-0730-4D53-B0F8-FC00271A2215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0A396D-D068-42A8-B448-9F77D937D3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41.xml"/><Relationship Id="rId6" Type="http://schemas.openxmlformats.org/officeDocument/2006/relationships/slideLayout" Target="../slideLayouts/slideLayout242.xml"/><Relationship Id="rId7" Type="http://schemas.openxmlformats.org/officeDocument/2006/relationships/slideLayout" Target="../slideLayouts/slideLayout243.xml"/><Relationship Id="rId8" Type="http://schemas.openxmlformats.org/officeDocument/2006/relationships/slideLayout" Target="../slideLayouts/slideLayout244.xml"/><Relationship Id="rId9" Type="http://schemas.openxmlformats.org/officeDocument/2006/relationships/slideLayout" Target="../slideLayouts/slideLayout245.xml"/><Relationship Id="rId10" Type="http://schemas.openxmlformats.org/officeDocument/2006/relationships/slideLayout" Target="../slideLayouts/slideLayout246.xml"/><Relationship Id="rId11" Type="http://schemas.openxmlformats.org/officeDocument/2006/relationships/slideLayout" Target="../slideLayouts/slideLayout247.xml"/><Relationship Id="rId12" Type="http://schemas.openxmlformats.org/officeDocument/2006/relationships/slideLayout" Target="../slideLayouts/slideLayout248.xml"/><Relationship Id="rId13" Type="http://schemas.openxmlformats.org/officeDocument/2006/relationships/slideLayout" Target="../slideLayouts/slideLayout249.xml"/><Relationship Id="rId14" Type="http://schemas.openxmlformats.org/officeDocument/2006/relationships/slideLayout" Target="../slideLayouts/slideLayout250.xml"/><Relationship Id="rId15" Type="http://schemas.openxmlformats.org/officeDocument/2006/relationships/slideLayout" Target="../slideLayouts/slideLayout251.xml"/><Relationship Id="rId16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3.xml"/><Relationship Id="rId6" Type="http://schemas.openxmlformats.org/officeDocument/2006/relationships/slideLayout" Target="../slideLayouts/slideLayout254.xml"/><Relationship Id="rId7" Type="http://schemas.openxmlformats.org/officeDocument/2006/relationships/slideLayout" Target="../slideLayouts/slideLayout255.xml"/><Relationship Id="rId8" Type="http://schemas.openxmlformats.org/officeDocument/2006/relationships/slideLayout" Target="../slideLayouts/slideLayout256.xml"/><Relationship Id="rId9" Type="http://schemas.openxmlformats.org/officeDocument/2006/relationships/slideLayout" Target="../slideLayouts/slideLayout257.xml"/><Relationship Id="rId10" Type="http://schemas.openxmlformats.org/officeDocument/2006/relationships/slideLayout" Target="../slideLayouts/slideLayout258.xml"/><Relationship Id="rId11" Type="http://schemas.openxmlformats.org/officeDocument/2006/relationships/slideLayout" Target="../slideLayouts/slideLayout259.xml"/><Relationship Id="rId12" Type="http://schemas.openxmlformats.org/officeDocument/2006/relationships/slideLayout" Target="../slideLayouts/slideLayout260.xml"/><Relationship Id="rId13" Type="http://schemas.openxmlformats.org/officeDocument/2006/relationships/slideLayout" Target="../slideLayouts/slideLayout261.xml"/><Relationship Id="rId14" Type="http://schemas.openxmlformats.org/officeDocument/2006/relationships/slideLayout" Target="../slideLayouts/slideLayout262.xml"/><Relationship Id="rId15" Type="http://schemas.openxmlformats.org/officeDocument/2006/relationships/slideLayout" Target="../slideLayouts/slideLayout263.xml"/><Relationship Id="rId16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65.xml"/><Relationship Id="rId6" Type="http://schemas.openxmlformats.org/officeDocument/2006/relationships/slideLayout" Target="../slideLayouts/slideLayout266.xml"/><Relationship Id="rId7" Type="http://schemas.openxmlformats.org/officeDocument/2006/relationships/slideLayout" Target="../slideLayouts/slideLayout267.xml"/><Relationship Id="rId8" Type="http://schemas.openxmlformats.org/officeDocument/2006/relationships/slideLayout" Target="../slideLayouts/slideLayout268.xml"/><Relationship Id="rId9" Type="http://schemas.openxmlformats.org/officeDocument/2006/relationships/slideLayout" Target="../slideLayouts/slideLayout269.xml"/><Relationship Id="rId10" Type="http://schemas.openxmlformats.org/officeDocument/2006/relationships/slideLayout" Target="../slideLayouts/slideLayout270.xml"/><Relationship Id="rId11" Type="http://schemas.openxmlformats.org/officeDocument/2006/relationships/slideLayout" Target="../slideLayouts/slideLayout271.xml"/><Relationship Id="rId12" Type="http://schemas.openxmlformats.org/officeDocument/2006/relationships/slideLayout" Target="../slideLayouts/slideLayout272.xml"/><Relationship Id="rId13" Type="http://schemas.openxmlformats.org/officeDocument/2006/relationships/slideLayout" Target="../slideLayouts/slideLayout273.xml"/><Relationship Id="rId14" Type="http://schemas.openxmlformats.org/officeDocument/2006/relationships/slideLayout" Target="../slideLayouts/slideLayout274.xml"/><Relationship Id="rId15" Type="http://schemas.openxmlformats.org/officeDocument/2006/relationships/slideLayout" Target="../slideLayouts/slideLayout275.xml"/><Relationship Id="rId16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77.xml"/><Relationship Id="rId6" Type="http://schemas.openxmlformats.org/officeDocument/2006/relationships/slideLayout" Target="../slideLayouts/slideLayout278.xml"/><Relationship Id="rId7" Type="http://schemas.openxmlformats.org/officeDocument/2006/relationships/slideLayout" Target="../slideLayouts/slideLayout279.xml"/><Relationship Id="rId8" Type="http://schemas.openxmlformats.org/officeDocument/2006/relationships/slideLayout" Target="../slideLayouts/slideLayout280.xml"/><Relationship Id="rId9" Type="http://schemas.openxmlformats.org/officeDocument/2006/relationships/slideLayout" Target="../slideLayouts/slideLayout281.xml"/><Relationship Id="rId10" Type="http://schemas.openxmlformats.org/officeDocument/2006/relationships/slideLayout" Target="../slideLayouts/slideLayout282.xml"/><Relationship Id="rId11" Type="http://schemas.openxmlformats.org/officeDocument/2006/relationships/slideLayout" Target="../slideLayouts/slideLayout283.xml"/><Relationship Id="rId12" Type="http://schemas.openxmlformats.org/officeDocument/2006/relationships/slideLayout" Target="../slideLayouts/slideLayout284.xml"/><Relationship Id="rId13" Type="http://schemas.openxmlformats.org/officeDocument/2006/relationships/slideLayout" Target="../slideLayouts/slideLayout285.xml"/><Relationship Id="rId14" Type="http://schemas.openxmlformats.org/officeDocument/2006/relationships/slideLayout" Target="../slideLayouts/slideLayout286.xml"/><Relationship Id="rId15" Type="http://schemas.openxmlformats.org/officeDocument/2006/relationships/slideLayout" Target="../slideLayouts/slideLayout287.xml"/><Relationship Id="rId16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89.xml"/><Relationship Id="rId6" Type="http://schemas.openxmlformats.org/officeDocument/2006/relationships/slideLayout" Target="../slideLayouts/slideLayout290.xml"/><Relationship Id="rId7" Type="http://schemas.openxmlformats.org/officeDocument/2006/relationships/slideLayout" Target="../slideLayouts/slideLayout291.xml"/><Relationship Id="rId8" Type="http://schemas.openxmlformats.org/officeDocument/2006/relationships/slideLayout" Target="../slideLayouts/slideLayout292.xml"/><Relationship Id="rId9" Type="http://schemas.openxmlformats.org/officeDocument/2006/relationships/slideLayout" Target="../slideLayouts/slideLayout293.xml"/><Relationship Id="rId10" Type="http://schemas.openxmlformats.org/officeDocument/2006/relationships/slideLayout" Target="../slideLayouts/slideLayout294.xml"/><Relationship Id="rId11" Type="http://schemas.openxmlformats.org/officeDocument/2006/relationships/slideLayout" Target="../slideLayouts/slideLayout295.xml"/><Relationship Id="rId12" Type="http://schemas.openxmlformats.org/officeDocument/2006/relationships/slideLayout" Target="../slideLayouts/slideLayout296.xml"/><Relationship Id="rId13" Type="http://schemas.openxmlformats.org/officeDocument/2006/relationships/slideLayout" Target="../slideLayouts/slideLayout297.xml"/><Relationship Id="rId14" Type="http://schemas.openxmlformats.org/officeDocument/2006/relationships/slideLayout" Target="../slideLayouts/slideLayout298.xml"/><Relationship Id="rId15" Type="http://schemas.openxmlformats.org/officeDocument/2006/relationships/slideLayout" Target="../slideLayouts/slideLayout299.xml"/><Relationship Id="rId16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01.xml"/><Relationship Id="rId6" Type="http://schemas.openxmlformats.org/officeDocument/2006/relationships/slideLayout" Target="../slideLayouts/slideLayout302.xml"/><Relationship Id="rId7" Type="http://schemas.openxmlformats.org/officeDocument/2006/relationships/slideLayout" Target="../slideLayouts/slideLayout303.xml"/><Relationship Id="rId8" Type="http://schemas.openxmlformats.org/officeDocument/2006/relationships/slideLayout" Target="../slideLayouts/slideLayout304.xml"/><Relationship Id="rId9" Type="http://schemas.openxmlformats.org/officeDocument/2006/relationships/slideLayout" Target="../slideLayouts/slideLayout305.xml"/><Relationship Id="rId10" Type="http://schemas.openxmlformats.org/officeDocument/2006/relationships/slideLayout" Target="../slideLayouts/slideLayout306.xml"/><Relationship Id="rId11" Type="http://schemas.openxmlformats.org/officeDocument/2006/relationships/slideLayout" Target="../slideLayouts/slideLayout307.xml"/><Relationship Id="rId12" Type="http://schemas.openxmlformats.org/officeDocument/2006/relationships/slideLayout" Target="../slideLayouts/slideLayout308.xml"/><Relationship Id="rId13" Type="http://schemas.openxmlformats.org/officeDocument/2006/relationships/slideLayout" Target="../slideLayouts/slideLayout309.xml"/><Relationship Id="rId14" Type="http://schemas.openxmlformats.org/officeDocument/2006/relationships/slideLayout" Target="../slideLayouts/slideLayout310.xml"/><Relationship Id="rId15" Type="http://schemas.openxmlformats.org/officeDocument/2006/relationships/slideLayout" Target="../slideLayouts/slideLayout311.xml"/><Relationship Id="rId16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1B5454-92CF-4696-9CF3-4CA4C6F354D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sldNum" idx="1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FB04F18-D9F1-4EAF-9C2C-1F999A7900C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23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sldNum" idx="1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38F88C0-69E1-4654-8B02-645E79ABCE1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65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sldNum" idx="1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B4CFF3-752B-46A5-AA66-08FAEC8E91A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07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sldNum" idx="1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362E7A-8682-4A14-B734-04F34C0D10B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sldNum" idx="1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C1DCBF-0F8D-403E-B32C-C6E83E6EA64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92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3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sldNum" idx="1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292428-DFA8-472C-B924-1F9D827E888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35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 type="sldNum" idx="1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BBBCCF7-A64C-4EAF-A805-14C136AC3E9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78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9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sldNum" idx="1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844415-616B-4471-BF5F-C24E232C7D2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21" name="Rectangle 6"/>
          <p:cNvSpPr/>
          <p:nvPr/>
        </p:nvSpPr>
        <p:spPr>
          <a:xfrm>
            <a:off x="249120" y="269568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Rectangle 9"/>
          <p:cNvSpPr/>
          <p:nvPr/>
        </p:nvSpPr>
        <p:spPr>
          <a:xfrm>
            <a:off x="247680" y="895320"/>
            <a:ext cx="864072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 type="sldNum" idx="1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AB3FE92-0901-48CB-8BE8-9C15F61A0F8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6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sldNum" idx="1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C7C6D7-9144-4C52-944D-FF8761C0623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4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7F08E6-F195-44AA-9667-3494C2F4F95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09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 type="sldNum" idx="2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5881671-6E5D-4215-BDAA-0F2ABC6F9D0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5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5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 type="sldNum" idx="2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88F00F8-7E4F-4322-B7F4-C7C684D5473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5"/>
    <p:sldLayoutId id="2147483910" r:id="rId6"/>
    <p:sldLayoutId id="2147483911" r:id="rId7"/>
    <p:sldLayoutId id="2147483912" r:id="rId8"/>
    <p:sldLayoutId id="2147483913" r:id="rId9"/>
    <p:sldLayoutId id="2147483914" r:id="rId10"/>
    <p:sldLayoutId id="2147483915" r:id="rId11"/>
    <p:sldLayoutId id="2147483916" r:id="rId12"/>
    <p:sldLayoutId id="2147483917" r:id="rId13"/>
    <p:sldLayoutId id="2147483918" r:id="rId14"/>
    <p:sldLayoutId id="2147483919" r:id="rId15"/>
    <p:sldLayoutId id="2147483920" r:id="rId16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9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 type="sldNum" idx="2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D412F0-3852-4D85-A4AE-9216CA6DEFE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5"/>
    <p:sldLayoutId id="2147483923" r:id="rId6"/>
    <p:sldLayoutId id="2147483924" r:id="rId7"/>
    <p:sldLayoutId id="2147483925" r:id="rId8"/>
    <p:sldLayoutId id="2147483926" r:id="rId9"/>
    <p:sldLayoutId id="2147483927" r:id="rId10"/>
    <p:sldLayoutId id="2147483928" r:id="rId11"/>
    <p:sldLayoutId id="2147483929" r:id="rId12"/>
    <p:sldLayoutId id="2147483930" r:id="rId13"/>
    <p:sldLayoutId id="2147483931" r:id="rId14"/>
    <p:sldLayoutId id="2147483932" r:id="rId15"/>
    <p:sldLayoutId id="2147483933" r:id="rId16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 type="sldNum" idx="2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2A00F3-EDCA-4773-9691-3422CBFFE33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5"/>
    <p:sldLayoutId id="2147483936" r:id="rId6"/>
    <p:sldLayoutId id="2147483937" r:id="rId7"/>
    <p:sldLayoutId id="2147483938" r:id="rId8"/>
    <p:sldLayoutId id="2147483939" r:id="rId9"/>
    <p:sldLayoutId id="2147483940" r:id="rId10"/>
    <p:sldLayoutId id="2147483941" r:id="rId11"/>
    <p:sldLayoutId id="2147483942" r:id="rId12"/>
    <p:sldLayoutId id="2147483943" r:id="rId13"/>
    <p:sldLayoutId id="2147483944" r:id="rId14"/>
    <p:sldLayoutId id="2147483945" r:id="rId15"/>
    <p:sldLayoutId id="2147483946" r:id="rId16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 type="sldNum" idx="2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7854FD-9514-401C-B205-8DE9A48E78A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5"/>
    <p:sldLayoutId id="2147483949" r:id="rId6"/>
    <p:sldLayoutId id="2147483950" r:id="rId7"/>
    <p:sldLayoutId id="2147483951" r:id="rId8"/>
    <p:sldLayoutId id="2147483952" r:id="rId9"/>
    <p:sldLayoutId id="2147483953" r:id="rId10"/>
    <p:sldLayoutId id="2147483954" r:id="rId11"/>
    <p:sldLayoutId id="2147483955" r:id="rId12"/>
    <p:sldLayoutId id="2147483956" r:id="rId13"/>
    <p:sldLayoutId id="2147483957" r:id="rId14"/>
    <p:sldLayoutId id="2147483958" r:id="rId15"/>
    <p:sldLayoutId id="2147483959" r:id="rId16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23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4" name="Rectangle 8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sldNum" idx="2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1AD905-3CDD-455D-9682-0B81F305527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5"/>
    <p:sldLayoutId id="2147483962" r:id="rId6"/>
    <p:sldLayoutId id="2147483963" r:id="rId7"/>
    <p:sldLayoutId id="2147483964" r:id="rId8"/>
    <p:sldLayoutId id="2147483965" r:id="rId9"/>
    <p:sldLayoutId id="2147483966" r:id="rId10"/>
    <p:sldLayoutId id="2147483967" r:id="rId11"/>
    <p:sldLayoutId id="2147483968" r:id="rId12"/>
    <p:sldLayoutId id="2147483969" r:id="rId13"/>
    <p:sldLayoutId id="2147483970" r:id="rId14"/>
    <p:sldLayoutId id="2147483971" r:id="rId15"/>
    <p:sldLayoutId id="2147483972" r:id="rId16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66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 type="sldNum" idx="2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E10BC5-AA8F-45AB-B1B3-EFB815AB417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5"/>
    <p:sldLayoutId id="2147483975" r:id="rId6"/>
    <p:sldLayoutId id="2147483976" r:id="rId7"/>
    <p:sldLayoutId id="2147483977" r:id="rId8"/>
    <p:sldLayoutId id="2147483978" r:id="rId9"/>
    <p:sldLayoutId id="2147483979" r:id="rId10"/>
    <p:sldLayoutId id="2147483980" r:id="rId11"/>
    <p:sldLayoutId id="2147483981" r:id="rId12"/>
    <p:sldLayoutId id="2147483982" r:id="rId13"/>
    <p:sldLayoutId id="2147483983" r:id="rId14"/>
    <p:sldLayoutId id="2147483984" r:id="rId15"/>
    <p:sldLayoutId id="2147483985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B6D0E6-8076-49BF-9D06-BAAD9F7FA2F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A3F5A6-ED00-4CF8-B6C2-1BB33262B72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DA9592-E2E1-4855-89D7-6BDF4D7692E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0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Num" idx="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77530C-F43E-4A22-AF86-EE3EAA4558F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3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D55E438-B155-4E13-A3E7-F33B815E38C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6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sldNum" idx="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BE9001D-414F-4B74-A202-E81C3BAF96B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sldNum" idx="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EB0F8DB-E322-49D7-83C4-7566065567F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27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9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277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0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25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2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3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328760"/>
          </a:xfrm>
          <a:prstGeom prst="rect">
            <a:avLst/>
          </a:prstGeom>
          <a:ln w="0">
            <a:noFill/>
          </a:ln>
        </p:spPr>
      </p:pic>
      <p:sp>
        <p:nvSpPr>
          <p:cNvPr id="111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2EB7600-F225-4ABA-9B71-BADC28ACC6A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5" name="PlaceHolder 1"/>
          <p:cNvSpPr>
            <a:spLocks noGrp="1"/>
          </p:cNvSpPr>
          <p:nvPr>
            <p:ph/>
          </p:nvPr>
        </p:nvSpPr>
        <p:spPr>
          <a:xfrm>
            <a:off x="429840" y="1450440"/>
            <a:ext cx="8386920" cy="40356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Brian 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29840" y="1800000"/>
            <a:ext cx="8386920" cy="40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lfresco Product Architec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29840" y="2263680"/>
            <a:ext cx="8386920" cy="457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 fontScale="75000"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459824A-DEA8-4505-A2D8-FA3B166286F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corresponding data list for feedback (auto-created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New entries are periodically processed – each type of feedback can have its own handler defin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mmen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mmen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ntac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ntact Reques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1" name="TextBox 6"/>
          <p:cNvSpPr/>
          <p:nvPr/>
        </p:nvSpPr>
        <p:spPr>
          <a:xfrm>
            <a:off x="249120" y="5113440"/>
            <a:ext cx="863928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8585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bean id=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"commentFeedbackProcessorHandler" 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parent="feedbackProcessorHandler"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       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class="org.alfresco.module.org_alfresco_module_wcmquickstart.jobs.feedback.CommentFeedbackProcessorHandler"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&lt;property name=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"feedbackType" value="Comment"  /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/bean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2" name="Picture 2" descr="C:\Users\Brian\Documents\alfresco\cheetah\wcmqs-devguide\feedback-processor.png"/>
          <p:cNvPicPr/>
          <p:nvPr/>
        </p:nvPicPr>
        <p:blipFill>
          <a:blip r:embed="rId2"/>
          <a:stretch/>
        </p:blipFill>
        <p:spPr>
          <a:xfrm>
            <a:off x="4730760" y="1189080"/>
            <a:ext cx="404028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C93E1ED-DE73-4B29-BFDF-66440661BEC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5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publishing queu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WQS has a PublishService that processes the queu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actions defined: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Tree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and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”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workflows defined that use the action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Queues are published periodically – every minute by default (override with property </a:t>
            </a: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wcmqs.publishQueueProcessor.schedule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node may specify another website node that it publishes 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6" name="Straight Connector 5"/>
          <p:cNvSpPr/>
          <p:nvPr/>
        </p:nvSpPr>
        <p:spPr>
          <a:xfrm>
            <a:off x="8888400" y="2814480"/>
            <a:ext cx="0" cy="3121200"/>
          </a:xfrm>
          <a:prstGeom prst="line">
            <a:avLst/>
          </a:prstGeom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7" name="Picture 3" descr=""/>
          <p:cNvPicPr/>
          <p:nvPr/>
        </p:nvPicPr>
        <p:blipFill>
          <a:blip r:embed="rId2"/>
          <a:stretch/>
        </p:blipFill>
        <p:spPr>
          <a:xfrm>
            <a:off x="3021120" y="4497480"/>
            <a:ext cx="140976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8" name="Title 6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408CC13-FE78-4F62-A611-41D9E9CDE59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Override map of available ACP files using a bean named 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i="1" lang="en-GB" sz="1600" spc="-1" strike="noStrike">
                <a:solidFill>
                  <a:srgbClr val="333333"/>
                </a:solidFill>
                <a:latin typeface="Courier New"/>
              </a:rPr>
              <a:t>wqsmodule_siteImportFileLocations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171" name="Picture 2" descr=""/>
          <p:cNvPicPr/>
          <p:nvPr/>
        </p:nvPicPr>
        <p:blipFill>
          <a:blip r:embed="rId2"/>
          <a:stretch/>
        </p:blipFill>
        <p:spPr>
          <a:xfrm>
            <a:off x="339840" y="3105000"/>
            <a:ext cx="6056280" cy="14018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2" name="Picture 3" descr=""/>
          <p:cNvPicPr/>
          <p:nvPr/>
        </p:nvPicPr>
        <p:blipFill>
          <a:blip r:embed="rId3"/>
          <a:stretch/>
        </p:blipFill>
        <p:spPr>
          <a:xfrm>
            <a:off x="4016520" y="1906560"/>
            <a:ext cx="4695840" cy="885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3" name="Picture 4" descr=""/>
          <p:cNvPicPr/>
          <p:nvPr/>
        </p:nvPicPr>
        <p:blipFill>
          <a:blip r:embed="rId4"/>
          <a:stretch/>
        </p:blipFill>
        <p:spPr>
          <a:xfrm>
            <a:off x="771480" y="4935600"/>
            <a:ext cx="7581960" cy="604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50EB16-9A43-44AB-98AE-79B0326B39C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176" name="Group 1039"/>
          <p:cNvGrpSpPr/>
          <p:nvPr/>
        </p:nvGrpSpPr>
        <p:grpSpPr>
          <a:xfrm>
            <a:off x="3328920" y="1265400"/>
            <a:ext cx="1851120" cy="3873240"/>
            <a:chOff x="3328920" y="1265400"/>
            <a:chExt cx="1851120" cy="3873240"/>
          </a:xfrm>
        </p:grpSpPr>
        <p:grpSp>
          <p:nvGrpSpPr>
            <p:cNvPr id="1177" name="Rounded Rectangle 20"/>
            <p:cNvGrpSpPr/>
            <p:nvPr/>
          </p:nvGrpSpPr>
          <p:grpSpPr>
            <a:xfrm>
              <a:off x="3328920" y="2755800"/>
              <a:ext cx="1851120" cy="737280"/>
              <a:chOff x="3328920" y="2755800"/>
              <a:chExt cx="1851120" cy="737280"/>
            </a:xfrm>
          </p:grpSpPr>
          <p:pic>
            <p:nvPicPr>
              <p:cNvPr id="1178" name="Rounded Rectangle 20" descr=""/>
              <p:cNvPicPr/>
              <p:nvPr/>
            </p:nvPicPr>
            <p:blipFill>
              <a:blip r:embed="rId2"/>
              <a:stretch/>
            </p:blipFill>
            <p:spPr>
              <a:xfrm>
                <a:off x="3328920" y="275580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9" name=""/>
              <p:cNvSpPr/>
              <p:nvPr/>
            </p:nvSpPr>
            <p:spPr>
              <a:xfrm>
                <a:off x="3438000" y="28839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GB" sz="1600" spc="-1" strike="noStrike">
                    <a:solidFill>
                      <a:srgbClr val="4a452a"/>
                    </a:solidFill>
                    <a:latin typeface="Arial"/>
                    <a:ea typeface="ヒラギノ角ゴ ProN W3"/>
                  </a:rPr>
                  <a:t>WQS API</a:t>
                </a:r>
                <a:endParaRPr b="0" lang="en-US" sz="1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80" name="Group 1023"/>
            <p:cNvGrpSpPr/>
            <p:nvPr/>
          </p:nvGrpSpPr>
          <p:grpSpPr>
            <a:xfrm>
              <a:off x="3406320" y="4329720"/>
              <a:ext cx="1541880" cy="808920"/>
              <a:chOff x="3406320" y="4329720"/>
              <a:chExt cx="1541880" cy="808920"/>
            </a:xfrm>
          </p:grpSpPr>
          <p:grpSp>
            <p:nvGrpSpPr>
              <p:cNvPr id="1181" name="Rounded Rectangle 25"/>
              <p:cNvGrpSpPr/>
              <p:nvPr/>
            </p:nvGrpSpPr>
            <p:grpSpPr>
              <a:xfrm>
                <a:off x="3406320" y="4329720"/>
                <a:ext cx="1541880" cy="808920"/>
                <a:chOff x="3406320" y="4329720"/>
                <a:chExt cx="1541880" cy="808920"/>
              </a:xfrm>
            </p:grpSpPr>
            <p:pic>
              <p:nvPicPr>
                <p:cNvPr id="1182" name="Rounded Rectangle 2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406320" y="4329720"/>
                  <a:ext cx="1541880" cy="808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3" name=""/>
                <p:cNvSpPr/>
                <p:nvPr/>
              </p:nvSpPr>
              <p:spPr>
                <a:xfrm>
                  <a:off x="3511440" y="4434840"/>
                  <a:ext cx="122904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4" name="Picture 5" descr="C:\Users\Brian\Documents\alfresco\devcon2010\alfresco-logo.gif"/>
              <p:cNvPicPr/>
              <p:nvPr/>
            </p:nvPicPr>
            <p:blipFill>
              <a:blip r:embed="rId4"/>
              <a:stretch/>
            </p:blipFill>
            <p:spPr>
              <a:xfrm>
                <a:off x="3544920" y="4523760"/>
                <a:ext cx="1161360" cy="332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85" name="Group 1033"/>
            <p:cNvGrpSpPr/>
            <p:nvPr/>
          </p:nvGrpSpPr>
          <p:grpSpPr>
            <a:xfrm>
              <a:off x="3421800" y="2336760"/>
              <a:ext cx="1541880" cy="395640"/>
              <a:chOff x="3421800" y="2336760"/>
              <a:chExt cx="1541880" cy="395640"/>
            </a:xfrm>
          </p:grpSpPr>
          <p:grpSp>
            <p:nvGrpSpPr>
              <p:cNvPr id="1186" name="Rounded Rectangle 6"/>
              <p:cNvGrpSpPr/>
              <p:nvPr/>
            </p:nvGrpSpPr>
            <p:grpSpPr>
              <a:xfrm>
                <a:off x="3421800" y="2336760"/>
                <a:ext cx="1541880" cy="395640"/>
                <a:chOff x="3421800" y="2336760"/>
                <a:chExt cx="1541880" cy="395640"/>
              </a:xfrm>
            </p:grpSpPr>
            <p:pic>
              <p:nvPicPr>
                <p:cNvPr id="1187" name="Rounded Rectangle 6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421800" y="233676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8" name=""/>
                <p:cNvSpPr/>
                <p:nvPr/>
              </p:nvSpPr>
              <p:spPr>
                <a:xfrm>
                  <a:off x="3512520" y="240660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9" name="Picture 6" descr="C:\Users\Brian\Documents\alfresco\devcon2010\springsource-logo.gif"/>
              <p:cNvPicPr/>
              <p:nvPr/>
            </p:nvPicPr>
            <p:blipFill>
              <a:blip r:embed="rId6"/>
              <a:stretch/>
            </p:blipFill>
            <p:spPr>
              <a:xfrm>
                <a:off x="3510000" y="2423520"/>
                <a:ext cx="1236960" cy="149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90" name="Rounded Rectangle 10"/>
            <p:cNvGrpSpPr/>
            <p:nvPr/>
          </p:nvGrpSpPr>
          <p:grpSpPr>
            <a:xfrm>
              <a:off x="3328920" y="1701360"/>
              <a:ext cx="1851120" cy="737280"/>
              <a:chOff x="3328920" y="1701360"/>
              <a:chExt cx="1851120" cy="737280"/>
            </a:xfrm>
          </p:grpSpPr>
          <p:pic>
            <p:nvPicPr>
              <p:cNvPr id="1191" name="Rounded Rectangle 10" descr=""/>
              <p:cNvPicPr/>
              <p:nvPr/>
            </p:nvPicPr>
            <p:blipFill>
              <a:blip r:embed="rId7"/>
              <a:stretch/>
            </p:blipFill>
            <p:spPr>
              <a:xfrm>
                <a:off x="3328920" y="170136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2" name=""/>
              <p:cNvSpPr/>
              <p:nvPr/>
            </p:nvSpPr>
            <p:spPr>
              <a:xfrm>
                <a:off x="3438000" y="18327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93" name="Group 1024"/>
            <p:cNvGrpSpPr/>
            <p:nvPr/>
          </p:nvGrpSpPr>
          <p:grpSpPr>
            <a:xfrm>
              <a:off x="3421800" y="1265400"/>
              <a:ext cx="1541880" cy="395640"/>
              <a:chOff x="3421800" y="1265400"/>
              <a:chExt cx="1541880" cy="395640"/>
            </a:xfrm>
          </p:grpSpPr>
          <p:grpSp>
            <p:nvGrpSpPr>
              <p:cNvPr id="1194" name="Rounded Rectangle 14"/>
              <p:cNvGrpSpPr/>
              <p:nvPr/>
            </p:nvGrpSpPr>
            <p:grpSpPr>
              <a:xfrm>
                <a:off x="3421800" y="1265400"/>
                <a:ext cx="1541880" cy="395640"/>
                <a:chOff x="3421800" y="1265400"/>
                <a:chExt cx="1541880" cy="395640"/>
              </a:xfrm>
            </p:grpSpPr>
            <p:pic>
              <p:nvPicPr>
                <p:cNvPr id="1195" name="Rounded Rectangle 1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3421800" y="126540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6" name=""/>
                <p:cNvSpPr/>
                <p:nvPr/>
              </p:nvSpPr>
              <p:spPr>
                <a:xfrm>
                  <a:off x="3512520" y="133596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97" name="Picture 8" descr="C:\Users\Brian\Documents\alfresco\devcon2010\freemarker-logo.gif"/>
              <p:cNvPicPr/>
              <p:nvPr/>
            </p:nvPicPr>
            <p:blipFill>
              <a:blip r:embed="rId9"/>
              <a:stretch/>
            </p:blipFill>
            <p:spPr>
              <a:xfrm>
                <a:off x="3695040" y="1383480"/>
                <a:ext cx="866880" cy="964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98" name="Down Arrow 30"/>
            <p:cNvSpPr/>
            <p:nvPr/>
          </p:nvSpPr>
          <p:spPr>
            <a:xfrm>
              <a:off x="3971880" y="3534840"/>
              <a:ext cx="441360" cy="631800"/>
            </a:xfrm>
            <a:prstGeom prst="downArrow">
              <a:avLst>
                <a:gd name="adj1" fmla="val 50000"/>
                <a:gd name="adj2" fmla="val 59420"/>
              </a:avLst>
            </a:prstGeom>
            <a:gradFill rotWithShape="0">
              <a:gsLst>
                <a:gs pos="0">
                  <a:srgbClr val="0085e0"/>
                </a:gs>
                <a:gs pos="100000">
                  <a:srgbClr val="89c2ff"/>
                </a:gs>
              </a:gsLst>
              <a:lin ang="16200000"/>
            </a:gradFill>
            <a:ln w="9360">
              <a:solidFill>
                <a:srgbClr val="007bc3"/>
              </a:solidFill>
              <a:miter/>
            </a:ln>
            <a:effectLst>
              <a:outerShdw dist="63639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199" name="Picture 9" descr="C:\Users\Brian\Documents\alfresco\devcon2010\surf-logo.gif"/>
            <p:cNvPicPr/>
            <p:nvPr/>
          </p:nvPicPr>
          <p:blipFill>
            <a:blip r:embed="rId10"/>
            <a:stretch/>
          </p:blipFill>
          <p:spPr>
            <a:xfrm>
              <a:off x="3842280" y="1848600"/>
              <a:ext cx="669600" cy="323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0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5E88BC-C683-4422-837D-7F0C3FBA559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Bean “webSiteService” is a good starting point: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grpSp>
        <p:nvGrpSpPr>
          <p:cNvPr id="1203" name="Group 17"/>
          <p:cNvGrpSpPr/>
          <p:nvPr/>
        </p:nvGrpSpPr>
        <p:grpSpPr>
          <a:xfrm>
            <a:off x="5148360" y="1003320"/>
            <a:ext cx="3678120" cy="2128680"/>
            <a:chOff x="5148360" y="1003320"/>
            <a:chExt cx="3678120" cy="2128680"/>
          </a:xfrm>
        </p:grpSpPr>
        <p:pic>
          <p:nvPicPr>
            <p:cNvPr id="1204" name="Picture 5" descr="C:\Users\Brian\Documents\alfresco\cheetah\wcmqs-devguide\wcmqs-basic-model-cropped.png"/>
            <p:cNvPicPr/>
            <p:nvPr/>
          </p:nvPicPr>
          <p:blipFill>
            <a:blip r:embed="rId2"/>
            <a:stretch/>
          </p:blipFill>
          <p:spPr>
            <a:xfrm>
              <a:off x="5148360" y="1003320"/>
              <a:ext cx="3678120" cy="21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5" name="Rectangle 12"/>
            <p:cNvSpPr/>
            <p:nvPr/>
          </p:nvSpPr>
          <p:spPr>
            <a:xfrm>
              <a:off x="563292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6" name="Rectangle 15"/>
            <p:cNvSpPr/>
            <p:nvPr/>
          </p:nvSpPr>
          <p:spPr>
            <a:xfrm>
              <a:off x="725868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7" name="Rectangle 16"/>
            <p:cNvSpPr/>
            <p:nvPr/>
          </p:nvSpPr>
          <p:spPr>
            <a:xfrm>
              <a:off x="6584040" y="2335320"/>
              <a:ext cx="509400" cy="16812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pic>
        <p:nvPicPr>
          <p:cNvPr id="1208" name="Picture 2" descr=""/>
          <p:cNvPicPr/>
          <p:nvPr/>
        </p:nvPicPr>
        <p:blipFill>
          <a:blip r:embed="rId3"/>
          <a:stretch/>
        </p:blipFill>
        <p:spPr>
          <a:xfrm>
            <a:off x="247680" y="3294000"/>
            <a:ext cx="8648640" cy="2641680"/>
          </a:xfrm>
          <a:prstGeom prst="rect">
            <a:avLst/>
          </a:prstGeom>
          <a:ln w="9360">
            <a:solidFill>
              <a:srgbClr val="adada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9" name="Title 1" descr=""/>
          <p:cNvPicPr/>
          <p:nvPr/>
        </p:nvPicPr>
        <p:blipFill>
          <a:blip r:embed="rId1"/>
          <a:stretch/>
        </p:blipFill>
        <p:spPr>
          <a:xfrm>
            <a:off x="0" y="23760"/>
            <a:ext cx="8888400" cy="860400"/>
          </a:xfrm>
          <a:prstGeom prst="rect">
            <a:avLst/>
          </a:prstGeom>
          <a:ln w="0">
            <a:noFill/>
          </a:ln>
        </p:spPr>
      </p:pic>
      <p:sp>
        <p:nvSpPr>
          <p:cNvPr id="121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1EB030D-39AC-4316-ABAD-DD96BB9659F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1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2" name="Rectangle 4"/>
          <p:cNvSpPr/>
          <p:nvPr/>
        </p:nvSpPr>
        <p:spPr>
          <a:xfrm>
            <a:off x="4381560" y="3979800"/>
            <a:ext cx="388800" cy="19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13" name="Picture 3" descr=""/>
          <p:cNvPicPr/>
          <p:nvPr/>
        </p:nvPicPr>
        <p:blipFill>
          <a:blip r:embed="rId2"/>
          <a:stretch/>
        </p:blipFill>
        <p:spPr>
          <a:xfrm>
            <a:off x="272880" y="923760"/>
            <a:ext cx="8493120" cy="3681720"/>
          </a:xfrm>
          <a:prstGeom prst="rect">
            <a:avLst/>
          </a:prstGeom>
          <a:ln w="0">
            <a:noFill/>
          </a:ln>
        </p:spPr>
      </p:pic>
      <p:pic>
        <p:nvPicPr>
          <p:cNvPr id="1214" name="Group 3" descr=""/>
          <p:cNvPicPr/>
          <p:nvPr/>
        </p:nvPicPr>
        <p:blipFill>
          <a:blip r:embed="rId3"/>
          <a:stretch/>
        </p:blipFill>
        <p:spPr>
          <a:xfrm>
            <a:off x="2382840" y="4224240"/>
            <a:ext cx="41940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1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F02D4B1-E4DD-4E23-A6E4-78872D208DF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7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Friendly” URLs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quested URL is parsed to find the website, section, and asset that are being address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ww.example.com/news/global/financial_outlook_goo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solved API objects are stored on the request context with the names “website”, “section”, and “asset” for use by page components.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8" name="Straight Connector 10"/>
          <p:cNvSpPr/>
          <p:nvPr/>
        </p:nvSpPr>
        <p:spPr>
          <a:xfrm>
            <a:off x="977760" y="3179880"/>
            <a:ext cx="2497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9" name="Straight Connector 12"/>
          <p:cNvSpPr/>
          <p:nvPr/>
        </p:nvSpPr>
        <p:spPr>
          <a:xfrm>
            <a:off x="3475080" y="3602160"/>
            <a:ext cx="178920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0" name="Straight Connector 15"/>
          <p:cNvSpPr/>
          <p:nvPr/>
        </p:nvSpPr>
        <p:spPr>
          <a:xfrm>
            <a:off x="5264280" y="3179880"/>
            <a:ext cx="3100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1" name="Straight Connector 17"/>
          <p:cNvSpPr/>
          <p:nvPr/>
        </p:nvSpPr>
        <p:spPr>
          <a:xfrm>
            <a:off x="22255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2" name="Straight Connector 19"/>
          <p:cNvSpPr/>
          <p:nvPr/>
        </p:nvSpPr>
        <p:spPr>
          <a:xfrm>
            <a:off x="68137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3" name="Straight Connector 21"/>
          <p:cNvSpPr/>
          <p:nvPr/>
        </p:nvSpPr>
        <p:spPr>
          <a:xfrm>
            <a:off x="4368960" y="3602160"/>
            <a:ext cx="0" cy="17460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4" name="TextBox 25"/>
          <p:cNvSpPr/>
          <p:nvPr/>
        </p:nvSpPr>
        <p:spPr>
          <a:xfrm>
            <a:off x="1786320" y="2735280"/>
            <a:ext cx="86940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websi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5" name="TextBox 26"/>
          <p:cNvSpPr/>
          <p:nvPr/>
        </p:nvSpPr>
        <p:spPr>
          <a:xfrm>
            <a:off x="3934440" y="3730680"/>
            <a:ext cx="82548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sectio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6" name="TextBox 27"/>
          <p:cNvSpPr/>
          <p:nvPr/>
        </p:nvSpPr>
        <p:spPr>
          <a:xfrm>
            <a:off x="6465240" y="2743200"/>
            <a:ext cx="66672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333333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asset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2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5A11DE4-49C6-4975-A2B1-A9936DAA777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ired in to respond whenever an asset has been resolv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Discovers the page name to be used to render the asse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Each section may define template mappings from asset type to view name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Searches up the type hierarchy first, then the section hierarchy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3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231" name="Picture 3" descr=""/>
          <p:cNvPicPr/>
          <p:nvPr/>
        </p:nvPicPr>
        <p:blipFill>
          <a:blip r:embed="rId2"/>
          <a:stretch/>
        </p:blipFill>
        <p:spPr>
          <a:xfrm>
            <a:off x="4695840" y="1301760"/>
            <a:ext cx="4132080" cy="3780000"/>
          </a:xfrm>
          <a:prstGeom prst="rect">
            <a:avLst/>
          </a:prstGeom>
          <a:ln w="0">
            <a:noFill/>
          </a:ln>
        </p:spPr>
      </p:pic>
      <p:sp>
        <p:nvSpPr>
          <p:cNvPr id="1232" name="Rectangle 6"/>
          <p:cNvSpPr/>
          <p:nvPr/>
        </p:nvSpPr>
        <p:spPr>
          <a:xfrm>
            <a:off x="4786200" y="3379680"/>
            <a:ext cx="3197160" cy="658800"/>
          </a:xfrm>
          <a:prstGeom prst="rect">
            <a:avLst/>
          </a:prstGeom>
          <a:noFill/>
          <a:ln w="15840">
            <a:solidFill>
              <a:srgbClr val="38ff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3" name="Picture 4" descr=""/>
          <p:cNvPicPr/>
          <p:nvPr/>
        </p:nvPicPr>
        <p:blipFill>
          <a:blip r:embed="rId3"/>
          <a:stretch/>
        </p:blipFill>
        <p:spPr>
          <a:xfrm>
            <a:off x="4813200" y="3409920"/>
            <a:ext cx="310680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C52E63F-B575-4AC8-86F9-09E6083EBAA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6" name="Picture 5" descr="C:\Users\Brian\Documents\alfresco\cheetah\wcmqs-devguide\wqs-webapp-sequence1.png"/>
          <p:cNvPicPr/>
          <p:nvPr/>
        </p:nvPicPr>
        <p:blipFill>
          <a:blip r:embed="rId2"/>
          <a:stretch/>
        </p:blipFill>
        <p:spPr>
          <a:xfrm>
            <a:off x="0" y="954000"/>
            <a:ext cx="9144000" cy="48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EC7030-259D-43F3-8FB7-847AD6AF586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9" name="Picture 5" descr=""/>
          <p:cNvPicPr/>
          <p:nvPr/>
        </p:nvPicPr>
        <p:blipFill>
          <a:blip r:embed="rId2"/>
          <a:stretch/>
        </p:blipFill>
        <p:spPr>
          <a:xfrm>
            <a:off x="760320" y="1089000"/>
            <a:ext cx="1428840" cy="174312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1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37EB98-B962-4A9F-A54A-26CD0DED6D3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0" name="PlaceHolder 1"/>
          <p:cNvSpPr>
            <a:spLocks noGrp="1"/>
          </p:cNvSpPr>
          <p:nvPr>
            <p:ph/>
          </p:nvPr>
        </p:nvSpPr>
        <p:spPr>
          <a:xfrm>
            <a:off x="249120" y="1460160"/>
            <a:ext cx="8639280" cy="44751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 demonstr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 Web Quick Start mod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features in the repository ti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sample web applic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rimary goal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49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o show you how Web Quick Start works so you can start to use it and extend i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249120" y="894960"/>
            <a:ext cx="8639280" cy="53820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7dc3"/>
                </a:solidFill>
                <a:latin typeface="Arial"/>
              </a:rPr>
              <a:t>What we’ll cov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1AC25F-EEB3-4B05-860C-41304583C95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2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3" name="Picture 7" descr=""/>
          <p:cNvPicPr/>
          <p:nvPr/>
        </p:nvPicPr>
        <p:blipFill>
          <a:blip r:embed="rId3"/>
          <a:stretch/>
        </p:blipFill>
        <p:spPr>
          <a:xfrm>
            <a:off x="687240" y="955800"/>
            <a:ext cx="171468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44" name="TextBox 3"/>
          <p:cNvSpPr/>
          <p:nvPr/>
        </p:nvSpPr>
        <p:spPr>
          <a:xfrm>
            <a:off x="3131640" y="144792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ink of “templates” as layouts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with holes cut out (“regions”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4D3044F-8130-4F84-AEC5-987D8A7DC8D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7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8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9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0" name="TextBox 3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1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5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1B93FD9-945B-40E9-B2DB-471E2651A58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53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4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5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6" name="Picture 9" descr=""/>
          <p:cNvPicPr/>
          <p:nvPr/>
        </p:nvPicPr>
        <p:blipFill>
          <a:blip r:embed="rId5"/>
          <a:stretch/>
        </p:blipFill>
        <p:spPr>
          <a:xfrm>
            <a:off x="833400" y="1816200"/>
            <a:ext cx="1914480" cy="1428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7" name="TextBox 3"/>
          <p:cNvSpPr/>
          <p:nvPr/>
        </p:nvSpPr>
        <p:spPr>
          <a:xfrm>
            <a:off x="2643840" y="3648240"/>
            <a:ext cx="30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or example, there are tw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that ren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rticle details: “article/style1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nd “article/style2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8" name="TextBox 9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FF77B56-D4D1-4D3F-B702-A67D318AB99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1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2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3" name="Picture 8" descr=""/>
          <p:cNvPicPr/>
          <p:nvPr/>
        </p:nvPicPr>
        <p:blipFill>
          <a:blip r:embed="rId4"/>
          <a:stretch/>
        </p:blipFill>
        <p:spPr>
          <a:xfrm>
            <a:off x="3892680" y="2481120"/>
            <a:ext cx="1638000" cy="38102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4" name="Picture 9" descr=""/>
          <p:cNvPicPr/>
          <p:nvPr/>
        </p:nvPicPr>
        <p:blipFill>
          <a:blip r:embed="rId5"/>
          <a:stretch/>
        </p:blipFill>
        <p:spPr>
          <a:xfrm>
            <a:off x="4092480" y="3341520"/>
            <a:ext cx="1914480" cy="14288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5" name="Picture 6" descr=""/>
          <p:cNvPicPr/>
          <p:nvPr/>
        </p:nvPicPr>
        <p:blipFill>
          <a:blip r:embed="rId6"/>
          <a:stretch/>
        </p:blipFill>
        <p:spPr>
          <a:xfrm>
            <a:off x="760320" y="1073160"/>
            <a:ext cx="1981440" cy="31431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66" name="TextBox 3"/>
          <p:cNvSpPr/>
          <p:nvPr/>
        </p:nvSpPr>
        <p:spPr>
          <a:xfrm>
            <a:off x="602280" y="4373640"/>
            <a:ext cx="2995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nally, pages weav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emplates and component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ogether: a page specifie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 template and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are to fill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regions in that templat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341A37F-1AE4-425C-BA10-06A6D25ABB3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9" name="Picture 2" descr=""/>
          <p:cNvPicPr/>
          <p:nvPr/>
        </p:nvPicPr>
        <p:blipFill>
          <a:blip r:embed="rId2"/>
          <a:stretch/>
        </p:blipFill>
        <p:spPr>
          <a:xfrm>
            <a:off x="1940040" y="762120"/>
            <a:ext cx="5010120" cy="54687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0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71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9F564EA-F2C9-4DEB-8043-E38914EE8AC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3" name="Rectangle 3"/>
          <p:cNvSpPr/>
          <p:nvPr/>
        </p:nvSpPr>
        <p:spPr>
          <a:xfrm>
            <a:off x="1860480" y="1208160"/>
            <a:ext cx="2886120" cy="1350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813774E-F24D-4DE4-80D8-D43DD9A74AA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76" name="Picture 4" descr=""/>
          <p:cNvPicPr/>
          <p:nvPr/>
        </p:nvPicPr>
        <p:blipFill>
          <a:blip r:embed="rId2"/>
          <a:stretch/>
        </p:blipFill>
        <p:spPr>
          <a:xfrm>
            <a:off x="1639800" y="779400"/>
            <a:ext cx="5291280" cy="58993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277" name="TextBox 6"/>
          <p:cNvSpPr/>
          <p:nvPr/>
        </p:nvSpPr>
        <p:spPr>
          <a:xfrm>
            <a:off x="130680" y="95724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ve-block.ftl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8" name="Rectangle 5"/>
          <p:cNvSpPr/>
          <p:nvPr/>
        </p:nvSpPr>
        <p:spPr>
          <a:xfrm>
            <a:off x="1860480" y="1444680"/>
            <a:ext cx="2425680" cy="2286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9" name="Rectangle 7"/>
          <p:cNvSpPr/>
          <p:nvPr/>
        </p:nvSpPr>
        <p:spPr>
          <a:xfrm>
            <a:off x="2013120" y="2085840"/>
            <a:ext cx="2116080" cy="6573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0" name="Rectangle 8"/>
          <p:cNvSpPr/>
          <p:nvPr/>
        </p:nvSpPr>
        <p:spPr>
          <a:xfrm>
            <a:off x="2471760" y="3200400"/>
            <a:ext cx="265284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1" name="Rectangle 9"/>
          <p:cNvSpPr/>
          <p:nvPr/>
        </p:nvSpPr>
        <p:spPr>
          <a:xfrm>
            <a:off x="2082960" y="5413320"/>
            <a:ext cx="2114280" cy="6429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2" name="Rectangle 10"/>
          <p:cNvSpPr/>
          <p:nvPr/>
        </p:nvSpPr>
        <p:spPr>
          <a:xfrm>
            <a:off x="2471760" y="4067280"/>
            <a:ext cx="277020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8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0F1FD2-135F-46C7-9920-627BC11389C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85" name="Picture 2" descr=""/>
          <p:cNvPicPr/>
          <p:nvPr/>
        </p:nvPicPr>
        <p:blipFill>
          <a:blip r:embed="rId2"/>
          <a:stretch/>
        </p:blipFill>
        <p:spPr>
          <a:xfrm>
            <a:off x="1874880" y="781200"/>
            <a:ext cx="5010120" cy="54702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286" name="Rectangle 4"/>
          <p:cNvSpPr/>
          <p:nvPr/>
        </p:nvSpPr>
        <p:spPr>
          <a:xfrm>
            <a:off x="1990800" y="1344600"/>
            <a:ext cx="4770360" cy="14637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ellyband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7" name="Rectangle 8"/>
          <p:cNvSpPr/>
          <p:nvPr/>
        </p:nvSpPr>
        <p:spPr>
          <a:xfrm>
            <a:off x="1990800" y="2863800"/>
            <a:ext cx="3141720" cy="18813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8" name="Rectangle 9"/>
          <p:cNvSpPr/>
          <p:nvPr/>
        </p:nvSpPr>
        <p:spPr>
          <a:xfrm>
            <a:off x="5253120" y="2863800"/>
            <a:ext cx="1508040" cy="14558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righ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9" name="Rectangle 10"/>
          <p:cNvSpPr/>
          <p:nvPr/>
        </p:nvSpPr>
        <p:spPr>
          <a:xfrm>
            <a:off x="1990800" y="48531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0" name="Rectangle 11"/>
          <p:cNvSpPr/>
          <p:nvPr/>
        </p:nvSpPr>
        <p:spPr>
          <a:xfrm>
            <a:off x="3560760" y="4861080"/>
            <a:ext cx="157176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1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92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F6049D-FE30-4273-8CAD-7E36D9A5242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4" name="Rectangle 5"/>
          <p:cNvSpPr/>
          <p:nvPr/>
        </p:nvSpPr>
        <p:spPr>
          <a:xfrm>
            <a:off x="1982880" y="2449440"/>
            <a:ext cx="2636640" cy="843120"/>
          </a:xfrm>
          <a:prstGeom prst="rect">
            <a:avLst/>
          </a:prstGeom>
          <a:solidFill>
            <a:srgbClr val="ff0000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5" name="TextBox 3"/>
          <p:cNvSpPr/>
          <p:nvPr/>
        </p:nvSpPr>
        <p:spPr>
          <a:xfrm>
            <a:off x="4773960" y="2185920"/>
            <a:ext cx="22168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For example, the region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left1” is populated b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component “list/wide”.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is component accepts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 property named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collection” – in this case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value of that propert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is being set to “news.top”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6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7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DB8DDB9-D8F2-488E-A7BF-473322E313E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8" name="Rectangle 10"/>
          <p:cNvSpPr/>
          <p:nvPr/>
        </p:nvSpPr>
        <p:spPr>
          <a:xfrm>
            <a:off x="2098800" y="48513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9" name="Rectangle 11"/>
          <p:cNvSpPr/>
          <p:nvPr/>
        </p:nvSpPr>
        <p:spPr>
          <a:xfrm>
            <a:off x="3670200" y="4859280"/>
            <a:ext cx="1569960" cy="10400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0" name="Picture 5" descr=""/>
          <p:cNvPicPr/>
          <p:nvPr/>
        </p:nvPicPr>
        <p:blipFill>
          <a:blip r:embed="rId2"/>
          <a:stretch/>
        </p:blipFill>
        <p:spPr>
          <a:xfrm>
            <a:off x="179280" y="936720"/>
            <a:ext cx="7467840" cy="1807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1" name="Picture 7" descr=""/>
          <p:cNvPicPr/>
          <p:nvPr/>
        </p:nvPicPr>
        <p:blipFill>
          <a:blip r:embed="rId3"/>
          <a:stretch/>
        </p:blipFill>
        <p:spPr>
          <a:xfrm>
            <a:off x="179280" y="1685880"/>
            <a:ext cx="8550360" cy="4389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302" name="TextBox 6"/>
          <p:cNvSpPr/>
          <p:nvPr/>
        </p:nvSpPr>
        <p:spPr>
          <a:xfrm>
            <a:off x="5497920" y="631800"/>
            <a:ext cx="218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js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3" name="TextBox 16"/>
          <p:cNvSpPr/>
          <p:nvPr/>
        </p:nvSpPr>
        <p:spPr>
          <a:xfrm>
            <a:off x="5121360" y="1384200"/>
            <a:ext cx="258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html.ftl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4" name="TextBox 3"/>
          <p:cNvSpPr/>
          <p:nvPr/>
        </p:nvSpPr>
        <p:spPr>
          <a:xfrm>
            <a:off x="4383360" y="2643120"/>
            <a:ext cx="4073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“list/wide” component loads the named asse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collection (“news.top” in this example), and then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renders information about each asset in tha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sset collec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2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285920"/>
          </a:xfrm>
          <a:prstGeom prst="rect">
            <a:avLst/>
          </a:prstGeom>
          <a:ln w="0">
            <a:noFill/>
          </a:ln>
        </p:spPr>
      </p:pic>
      <p:sp>
        <p:nvSpPr>
          <p:cNvPr id="112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B7779FA-88D7-4D1F-9BCA-E416B713E75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/>
          </p:nvPr>
        </p:nvSpPr>
        <p:spPr>
          <a:xfrm>
            <a:off x="429840" y="1450800"/>
            <a:ext cx="8386920" cy="835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30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A6A9493-3758-4D9E-9CA7-35DC2F140B6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7" name="Picture 4" descr=""/>
          <p:cNvPicPr/>
          <p:nvPr/>
        </p:nvPicPr>
        <p:blipFill>
          <a:blip r:embed="rId2"/>
          <a:stretch/>
        </p:blipFill>
        <p:spPr>
          <a:xfrm>
            <a:off x="2476440" y="1028880"/>
            <a:ext cx="3895920" cy="43434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8" name="Picture 2" descr=""/>
          <p:cNvPicPr/>
          <p:nvPr/>
        </p:nvPicPr>
        <p:blipFill>
          <a:blip r:embed="rId3"/>
          <a:stretch/>
        </p:blipFill>
        <p:spPr>
          <a:xfrm>
            <a:off x="1982880" y="779400"/>
            <a:ext cx="5010120" cy="5470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309" name="Rectangle 8"/>
          <p:cNvSpPr/>
          <p:nvPr/>
        </p:nvSpPr>
        <p:spPr>
          <a:xfrm>
            <a:off x="2098800" y="2862360"/>
            <a:ext cx="3141360" cy="188100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0" name="Title 7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963720"/>
          </a:xfrm>
          <a:prstGeom prst="rect">
            <a:avLst/>
          </a:prstGeom>
          <a:ln w="0">
            <a:noFill/>
          </a:ln>
        </p:spPr>
      </p:pic>
      <p:sp>
        <p:nvSpPr>
          <p:cNvPr id="131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283557-98DE-422F-BB3B-52A9D4A13D9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/>
          </p:nvPr>
        </p:nvSpPr>
        <p:spPr>
          <a:xfrm>
            <a:off x="429840" y="906120"/>
            <a:ext cx="8386920" cy="7714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 fontScale="68000"/>
          </a:bodyPr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iki.alfresco.com/wiki/Web_Quick_Star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forums.alfresco.com/en/viewforum.php?f=52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witter: @Alfresco, @brian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13" name="Picture 1" descr=""/>
          <p:cNvPicPr/>
          <p:nvPr/>
        </p:nvPicPr>
        <p:blipFill>
          <a:blip r:embed="rId2"/>
          <a:stretch/>
        </p:blipFill>
        <p:spPr>
          <a:xfrm>
            <a:off x="1106640" y="2089080"/>
            <a:ext cx="3966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2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80FA82-14C3-4051-99E7-6E3F4853BCD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27" name="Picture 5" descr="C:\Users\Brian\Documents\alfresco\cheetah\wcmqs-devguide\wcmqs-basic-model-cropped.png"/>
          <p:cNvPicPr/>
          <p:nvPr/>
        </p:nvPicPr>
        <p:blipFill>
          <a:blip r:embed="rId2"/>
          <a:stretch/>
        </p:blipFill>
        <p:spPr>
          <a:xfrm>
            <a:off x="487440" y="779400"/>
            <a:ext cx="8169120" cy="5211720"/>
          </a:xfrm>
          <a:prstGeom prst="rect">
            <a:avLst/>
          </a:prstGeom>
          <a:ln w="0">
            <a:noFill/>
          </a:ln>
        </p:spPr>
      </p:pic>
      <p:sp>
        <p:nvSpPr>
          <p:cNvPr id="1128" name="TextBox 3"/>
          <p:cNvSpPr/>
          <p:nvPr/>
        </p:nvSpPr>
        <p:spPr>
          <a:xfrm>
            <a:off x="1695960" y="190188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sit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9" name="TextBox 5"/>
          <p:cNvSpPr/>
          <p:nvPr/>
        </p:nvSpPr>
        <p:spPr>
          <a:xfrm>
            <a:off x="3441960" y="1881360"/>
            <a:ext cx="95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roo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0" name="TextBox 6"/>
          <p:cNvSpPr/>
          <p:nvPr/>
        </p:nvSpPr>
        <p:spPr>
          <a:xfrm>
            <a:off x="5343480" y="188136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s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1" name="TextBox 7"/>
          <p:cNvSpPr/>
          <p:nvPr/>
        </p:nvSpPr>
        <p:spPr>
          <a:xfrm>
            <a:off x="6683040" y="4216320"/>
            <a:ext cx="172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Coll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2" name="TextBox 8"/>
          <p:cNvSpPr/>
          <p:nvPr/>
        </p:nvSpPr>
        <p:spPr>
          <a:xfrm>
            <a:off x="3767040" y="4216320"/>
            <a:ext cx="105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3" name="TextBox 9"/>
          <p:cNvSpPr/>
          <p:nvPr/>
        </p:nvSpPr>
        <p:spPr>
          <a:xfrm>
            <a:off x="3573360" y="5732640"/>
            <a:ext cx="147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visitorFeedback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9A05B2-92B2-4AB0-BF41-C0D0D4616A6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6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Groups of assets that are uniquely named within the scope of a particular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Stat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Editor control over which assets are includ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Dynam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onfigured with a search query, maximum number of results, and a refresh period in minutes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The query is executed periodically (as configured), and the results are placed in the asset collection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MIS and Lucene support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37" name="Picture 3" descr=""/>
          <p:cNvPicPr/>
          <p:nvPr/>
        </p:nvPicPr>
        <p:blipFill>
          <a:blip r:embed="rId2"/>
          <a:stretch/>
        </p:blipFill>
        <p:spPr>
          <a:xfrm>
            <a:off x="5214960" y="1058760"/>
            <a:ext cx="2790720" cy="158112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38" name="Picture 4" descr=""/>
          <p:cNvPicPr/>
          <p:nvPr/>
        </p:nvPicPr>
        <p:blipFill>
          <a:blip r:embed="rId3"/>
          <a:stretch/>
        </p:blipFill>
        <p:spPr>
          <a:xfrm>
            <a:off x="5138640" y="3067200"/>
            <a:ext cx="3009960" cy="2647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77B51C-21B3-4975-A596-1A240EAB33D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1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2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1C2D52-B783-430A-8EDA-93DE424F36E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5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6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47" name="Picture 3" descr=""/>
          <p:cNvPicPr/>
          <p:nvPr/>
        </p:nvPicPr>
        <p:blipFill>
          <a:blip r:embed="rId3"/>
          <a:stretch/>
        </p:blipFill>
        <p:spPr>
          <a:xfrm>
            <a:off x="415800" y="3322800"/>
            <a:ext cx="6689880" cy="59688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22D5773-4F83-4632-936B-0CB11A05C81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0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1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2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CFDCD28-1766-456C-8A75-EAAC345572D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4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5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56" name="Picture 2" descr=""/>
          <p:cNvPicPr/>
          <p:nvPr/>
        </p:nvPicPr>
        <p:blipFill>
          <a:blip r:embed="rId3"/>
          <a:stretch/>
        </p:blipFill>
        <p:spPr>
          <a:xfrm>
            <a:off x="179280" y="1131840"/>
            <a:ext cx="8829720" cy="471636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14:57:41Z</dcterms:created>
  <dc:creator>Linton Baddeley</dc:creator>
  <dc:description/>
  <dc:language>en-US</dc:language>
  <cp:lastModifiedBy>Brian Remmington</cp:lastModifiedBy>
  <cp:lastPrinted>2011-09-06T09:51:35Z</cp:lastPrinted>
  <dcterms:modified xsi:type="dcterms:W3CDTF">2011-09-09T08:28:58Z</dcterms:modified>
  <cp:revision>223</cp:revision>
  <dc:subject/>
  <dc:title>Slide 1</dc:title>
</cp:coreProperties>
</file>