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9C18A-0F39-4989-84B3-EB5A6B304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AF252-62D7-4CD9-BD89-C292C94B7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9DDFF-65AD-464F-9571-ADBD370E9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3AF11-D699-47EA-87A2-8360882F6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2584C-2A7F-40F2-9A90-F43EC173F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C8F66-756F-4B12-968F-6B1CED57D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B13E9-836C-432E-8FAA-EEE74ECFD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5B402-D62D-4BD4-993C-9CEC99C65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1E1E7-29EE-481C-9AE2-49B880DD8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B18B9-1084-43F8-8E15-5044F5EA9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BE195-F7D4-45ED-ADED-0C73D2229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2088D-BC18-4812-BE8D-A35C5BFA8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EE8DE-37D8-4CEB-8B73-658EE157DA8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28Z</dcterms:modified>
  <cp:revision>5</cp:revision>
  <dc:subject/>
  <dc:title>Test content</dc:title>
</cp:coreProperties>
</file>