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D6180-EF5F-4130-ABFB-7603DB183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F6DC4-BE87-4F06-99B4-9EBE35796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F3F4E-407E-4838-B564-2A99D6B82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05A1F-68D3-42DB-8565-78948D9DF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1BCF4-4D3A-430C-9598-157EA42EE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D000A-7B33-4153-984F-3F425D8F9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AC9F1-EEA1-416E-8129-ED68F3FC1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8B5F7-E16B-48F1-9A7B-2C1B8D5F5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C310A-4EF4-4EFE-9B45-A07AA5F21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5B5B1-E231-4BB1-94C7-C1D993F07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B1F34-6DEA-45E2-ABD6-F97F5DC82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904F5-61AC-476C-9074-1CEF436BA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C9D07-74F0-49DE-B72B-9EA1D1D4B01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28Z</dcterms:modified>
  <cp:revision>5</cp:revision>
  <dc:subject/>
  <dc:title>Test content</dc:title>
</cp:coreProperties>
</file>