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C9766-E48F-466D-ACD0-348700A26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DF357-752D-4B1D-AB8E-22B8638D5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3CD6C-79A6-4FC0-B0CF-943EFB0A6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02F7D-9104-40CD-8E7D-3B2498C1F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0B873-0A41-42DE-A585-7DA8595A1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7C783-6F6A-4CBF-9CD2-0A9BCBA30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14E8C-1786-4537-A480-F4F5938D8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7C605-6B43-462D-80FB-80418CF61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46767-DAD5-454D-9651-6693CEEAB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C7FAB-C925-44E1-864F-BEB0E1DB7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FEFC8-00C9-4C09-8144-16F944064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F9EC6-0594-4777-954C-040F55487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74178-672A-4AE1-A18D-79F9B958B8E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9:41Z</dcterms:modified>
  <cp:revision>3</cp:revision>
  <dc:subject/>
  <dc:title>Test content</dc:title>
</cp:coreProperties>
</file>