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47.png" ContentType="image/png"/>
  <Override PartName="/ppt/media/image10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35.png" ContentType="image/png"/>
  <Override PartName="/ppt/media/image26.png" ContentType="image/png"/>
  <Override PartName="/ppt/media/image63.png" ContentType="image/png"/>
  <Override PartName="/ppt/media/image28.png" ContentType="image/png"/>
  <Override PartName="/ppt/media/image25.png" ContentType="image/png"/>
  <Override PartName="/ppt/media/image62.png" ContentType="image/png"/>
  <Override PartName="/ppt/media/image61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20.png" ContentType="image/png"/>
  <Override PartName="/ppt/media/image57.png" ContentType="image/png"/>
  <Override PartName="/ppt/media/image5.png" ContentType="image/png"/>
  <Override PartName="/ppt/media/image1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1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notesMasterIdLst>
    <p:notesMasterId r:id="rId28"/>
  </p:notes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  <p:sldId id="265" r:id="rId38"/>
    <p:sldId id="266" r:id="rId39"/>
    <p:sldId id="267" r:id="rId40"/>
    <p:sldId id="268" r:id="rId41"/>
    <p:sldId id="269" r:id="rId42"/>
    <p:sldId id="270" r:id="rId43"/>
    <p:sldId id="271" r:id="rId44"/>
    <p:sldId id="272" r:id="rId45"/>
    <p:sldId id="273" r:id="rId46"/>
    <p:sldId id="274" r:id="rId47"/>
    <p:sldId id="275" r:id="rId48"/>
    <p:sldId id="276" r:id="rId49"/>
    <p:sldId id="277" r:id="rId50"/>
    <p:sldId id="278" r:id="rId51"/>
    <p:sldId id="279" r:id="rId52"/>
    <p:sldId id="280" r:id="rId53"/>
    <p:sldId id="281" r:id="rId54"/>
    <p:sldId id="282" r:id="rId55"/>
    <p:sldId id="283" r:id="rId56"/>
    <p:sldId id="284" r:id="rId57"/>
    <p:sldId id="285" r:id="rId58"/>
    <p:sldId id="286" r:id="rId59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notesMaster" Target="notesMasters/notesMaster1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slide" Target="slides/slide10.xml"/><Relationship Id="rId39" Type="http://schemas.openxmlformats.org/officeDocument/2006/relationships/slide" Target="slides/slide11.xml"/><Relationship Id="rId40" Type="http://schemas.openxmlformats.org/officeDocument/2006/relationships/slide" Target="slides/slide12.xml"/><Relationship Id="rId41" Type="http://schemas.openxmlformats.org/officeDocument/2006/relationships/slide" Target="slides/slide13.xml"/><Relationship Id="rId42" Type="http://schemas.openxmlformats.org/officeDocument/2006/relationships/slide" Target="slides/slide14.xml"/><Relationship Id="rId43" Type="http://schemas.openxmlformats.org/officeDocument/2006/relationships/slide" Target="slides/slide15.xml"/><Relationship Id="rId44" Type="http://schemas.openxmlformats.org/officeDocument/2006/relationships/slide" Target="slides/slide16.xml"/><Relationship Id="rId45" Type="http://schemas.openxmlformats.org/officeDocument/2006/relationships/slide" Target="slides/slide17.xml"/><Relationship Id="rId46" Type="http://schemas.openxmlformats.org/officeDocument/2006/relationships/slide" Target="slides/slide18.xml"/><Relationship Id="rId47" Type="http://schemas.openxmlformats.org/officeDocument/2006/relationships/slide" Target="slides/slide19.xml"/><Relationship Id="rId48" Type="http://schemas.openxmlformats.org/officeDocument/2006/relationships/slide" Target="slides/slide20.xml"/><Relationship Id="rId49" Type="http://schemas.openxmlformats.org/officeDocument/2006/relationships/slide" Target="slides/slide21.xml"/><Relationship Id="rId50" Type="http://schemas.openxmlformats.org/officeDocument/2006/relationships/slide" Target="slides/slide22.xml"/><Relationship Id="rId51" Type="http://schemas.openxmlformats.org/officeDocument/2006/relationships/slide" Target="slides/slide23.xml"/><Relationship Id="rId52" Type="http://schemas.openxmlformats.org/officeDocument/2006/relationships/slide" Target="slides/slide24.xml"/><Relationship Id="rId53" Type="http://schemas.openxmlformats.org/officeDocument/2006/relationships/slide" Target="slides/slide25.xml"/><Relationship Id="rId54" Type="http://schemas.openxmlformats.org/officeDocument/2006/relationships/slide" Target="slides/slide26.xml"/><Relationship Id="rId55" Type="http://schemas.openxmlformats.org/officeDocument/2006/relationships/slide" Target="slides/slide27.xml"/><Relationship Id="rId56" Type="http://schemas.openxmlformats.org/officeDocument/2006/relationships/slide" Target="slides/slide28.xml"/><Relationship Id="rId57" Type="http://schemas.openxmlformats.org/officeDocument/2006/relationships/slide" Target="slides/slide29.xml"/><Relationship Id="rId58" Type="http://schemas.openxmlformats.org/officeDocument/2006/relationships/slide" Target="slides/slide30.xml"/><Relationship Id="rId59" Type="http://schemas.openxmlformats.org/officeDocument/2006/relationships/slide" Target="slides/slide31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dt" idx="2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ftr" idx="2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6"/>
          <p:cNvSpPr>
            <a:spLocks noGrp="1"/>
          </p:cNvSpPr>
          <p:nvPr>
            <p:ph type="sldNum" idx="2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24E8C2-D26B-4679-AEB8-B806679D06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181CAF-9D7D-4E5B-A903-17C808E2A66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93D945-F88B-4899-98A9-61830D48A20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08DEA4-78AA-4E54-8A92-E1D56BB33B7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346D38-229A-4426-A30F-C7611169048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6AFD0A-D6A5-400C-9F3F-8C62D8A4938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D1CF430-86DF-472C-B436-8BF917560AB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38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C7131A-394D-4EF1-9BFD-B6B155CCA54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144FA76-9FCE-4CF7-A526-BD235EF0F82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2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110D99-1673-4AEE-8287-666BA54769D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5030F41-AD4E-4165-B65C-9684838E290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E90B9C-BA00-4FFB-9AFA-8EAA1478DEF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820B9A-FB69-4F0C-8B81-B33C3F31F49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9801DA-6A05-4656-99F9-E17EF254ECD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F1F4C8-83BB-4E28-9A86-CA127083F30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78AA14-E24B-4433-8B4E-98CC7FBD8CA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9A2721-4369-472F-9548-9019E6259C8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4E1866-03CF-412E-BCB3-AF9675D3F9D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E6050C-FD43-49FF-A08D-84ACA47D7D0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57F2B5-9C21-40F4-B3C1-E1BF301CF95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reate new site and import WQS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doc lib, pointing out things of interest: website metadata, folder structure, collections, section template confi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dit the port number for the editorial site, and remove the “isEditorial” fla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the website: into each section – blogs l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ake a look at the data list(s) that have been created (empt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ost a comment to a blog post, show it appear in the data li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ack to site – show the comment on the blog page (including coun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oad a new image into the news section (Koala) – show the rendition definitions for the news s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ind a news article on the website and point out its image. In Share, edit the primary image of that article to be the Koala. Show the change on the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to Share. Add a tag or two to some news art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nto site: show the tags appear on the articles and the tag roll-up on the news landing p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nd a “contact us” requ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 contact us request in the data list and the workflow task in admin user’s task li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ublish section structure some example articles (blogs?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m appear in Share and on the “live”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6BA14E5-FC3A-42A8-8316-A886F187062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84F401B-5E3A-4FD8-964C-FBFB62FA7D9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6660FF-709D-4929-B7D3-013CD2C04AF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FEAC5A-1D63-4ACC-8CC9-07ADDC7E5BE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438AB6-DF97-4A4E-A3B7-3EFAC459529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93AC1BE-C743-4411-9E50-FFB753D378E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D14FBE-49EF-45AD-9854-D0B3D69767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65BA76-B363-48D8-8154-FEB900D94099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3B7FAC-8C85-4407-8ACA-F962A78F95D5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7B7B6B-7BF0-4136-8020-3EA3437C989C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1AC7BE-7269-4051-B326-E109DB9222FB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B73475-70BD-4DCD-8D81-F825726C5BA2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9BCA61-734F-4D03-971D-3CE8669AF87D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B2FBCB-F8F2-4087-AD45-2BE732B8E9D9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7700B5-E94F-4ABB-AEE2-F3489B22DE18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3DA6BF-8AE2-4DED-AAB6-3FDE19BC2E6D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6706B8-3924-4E76-8138-17E288B57C0F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5C8943B-2021-4B7E-9EE7-08C303C934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D0388E-014D-4655-8B83-EF7B771A994F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AE40C26-F5EF-4DC2-963F-C439C5A7342B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5DCA6D4-9E7A-416B-B8D4-6B39A3BDBD4C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98DD959-AB62-42E2-8FAC-C7AA2726D1FD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5E7DA67-382B-4E58-9A0E-4657A7F62547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FBE2E31-0584-4068-85CF-15B90860FCBA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778E684-0DF0-43ED-A87C-70B35659C34B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E9950C5-2FDC-416D-B020-CFA99BA8FF3A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574C1E7-CAEF-4E18-8535-8D5A8254FB34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F219B74-BA33-4582-9256-0C3C3CA17F56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AE34E55-2D02-4078-9898-B8223AB9AF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F89C83-4686-459F-AEB7-63890B69D211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881CC60-6653-40BC-819F-9F29C918DA80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A3B3F70-09A1-4BD7-89F7-D5BF2D5E96BA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5144649-B711-491C-B6F6-E8093AA1C89E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930DEDD-3061-43C9-800F-566BD390F822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00D6BB2-9AFE-43F6-9083-1D7983238F34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BD8DECD-4071-4CFB-AFB6-E06C32B1C1E8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7208236-7435-4567-942B-96708DF762D1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FEA34E0-9E24-4C78-9F88-683326B83F38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97EF6D4-111E-4DFA-AA45-FEEAAAD0EE7B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D8C2BB0-2265-4378-9A06-BC8B1DDA69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2BEF43-BD13-47FD-92F3-F344C32E75E9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91CE1FD-C065-4440-B368-506FED511B11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51C9AA0-F480-4944-B86C-1CFD7052958B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1F52A6A-7D27-4A4E-8DE0-086F882C894D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211A0F-663D-44B5-AFB8-83987CB466E5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40BB59-D69F-4B26-BC00-B6C715C352C8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361342-46D1-41D4-ADAC-0B8A0AC5FC92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6A1A52-CB33-4D41-988B-7593F3E734B0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21A6E8-44BC-47D3-83BC-FBDF2C50050D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BCA4CA-6FBF-443A-A8C6-9CEA1758D4CD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EB9382-3383-4073-9AFC-15F042A75A5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6F9282-D6AB-40B1-9143-220667B55661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37C35F-2E47-4726-A09B-637D18086191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EE21FE-6EAC-464B-9680-11AC4E1343CF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9C39AA-B4CE-4B9B-A7FB-D7C5C300851A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2D8B51-9735-4F16-838F-E331D1FEFA7A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E5D899-A94D-4E24-90C8-0C64477C64F9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6D96E64-92E7-4913-B354-9BF6AA299F31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FA2C1C2-7DB0-4796-93EC-E94FCB852CC0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2210A7D-C7BD-4733-8E4D-3933E011E499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FD70693-0D8C-4813-98A5-E06377348111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395223C-C6CC-4AE8-A76C-6AEB7CE1FA2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756652-2EFD-4E6D-8EAF-51D678FEC573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C3368B2-CA7B-40B3-B52A-F89E08E9E3DC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C47F66A-D4ED-4139-9106-00581AFAFFE3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BE34D9F-02B9-44BC-AAD4-17EBD986844A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D19081F-8602-4219-9E44-6839E76B737C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38AF5D0-4370-4642-B9BB-45CDE045926F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4FDA751-A842-4ADF-A0DF-83E913A438C5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A065898-2B28-480F-9B5D-48BAF5381B31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B358771-A218-498C-BC9B-62D5DE319312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B9EBB58-72FB-40E3-A1D8-FADC403C44DE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E6775E1-84CB-4468-B8AC-2AE70DB8274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E614FE-C559-41C6-A251-1F68454D8369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3683317-BCB0-4509-BDB3-D57A57385EE1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7AA28AB-FC02-409C-A163-E04A76C7D1B9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9B27B12-1540-42D1-87E2-129306A092FD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FDDBA3E-18FF-422B-A95B-6FE086BD34BD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3216F5D-E706-415A-942C-5C4A933A7B6B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F54D9AD-4319-4B74-A12D-B5AE6051B992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BC8A8DA-8C14-48DE-8EFD-4A63BA5FAD7E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B245355-4DE3-42F4-A30C-E5E8096DA027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211230E-19F6-47D3-AF4F-2D580F3E6C01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D2DE7F-957F-4B58-B6C1-9492FB99A8B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BEF316-7BFA-4135-9BF5-2386CEB11D3E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64BA94-9123-4667-9E07-4474542A306B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2506EF-BA28-4D12-B794-263AD37BB694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01048A-9D2A-42C2-B19C-7AEB17901C6C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3D3CE7-B0C1-4E4C-8F56-0A771BEDF2A5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098728-98A2-4418-879D-4B1EB83EB297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107F9B-3574-4D44-AA8B-B43C41D7A530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F43BB7-137A-4CB1-9AA9-88956644CD73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21C44C-61C6-40AC-B9D0-B281067A76DA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7DBC07-9CE9-4B56-89CF-7F8AA0575134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5265B5-B737-4E6B-A637-0A58AC419DE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3702AF-CC14-4FF0-AF57-28EC94499818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35729F-7017-4FF1-AD88-429D885E5FCD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3440243-F849-4B65-AE53-9948275B299F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8E5FEA5-B194-4FE2-A238-75C2499314B8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1863E99-3B36-4177-A3FD-B7A66165B91F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E49A179-1373-4B70-9E77-083C09248306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3349676-5C69-4228-B4B9-D1C1E68C31F0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CA80E2C-B4CB-4453-B725-810DA04503E8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99F384D-D32D-4FDC-8D4F-A9016E461009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493E180-D187-41A2-BD60-B525E5DD09C1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237E8F6-EEE4-4CD8-A5FA-FDAFF79669B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C30957-C932-48EC-90CE-BAE3B68BE573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5E7EB8B-D23A-43AC-9211-FD70A2B08355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EB956CE-0B62-4307-9B11-FFD2C8975DC5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49B5D3F-2869-4431-B6EF-B12922634A52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C6D30C1-3515-4E8E-9F5F-EE6917923ACE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22F99F3-52DB-42B4-AB56-EC48204BD4AC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DADB28D-416F-4BA2-8EBE-FA1EA94A3633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A6666D5-52A7-43AF-8943-592311F9FDC6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4924904-43FA-40F9-9D9D-9A32968F2873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0170F65-C2CA-4F2A-9936-A750DF355736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F6DCB2D-F30A-4F25-8F6C-03C7B5A8FB7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F0496B-EB1E-41F2-A33B-BE4938B35F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31BF73-4358-41DB-B14F-6B5DCC764E0B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DFB4C68-2ADE-4232-861B-87ED6F40F609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6527561-44E5-4A78-B4BC-CB56888F1EFD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FA86712-DCEE-436F-B2E4-2C5799DAE940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35FFAAE-753A-401B-B442-DFE02992931C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7062E96-8C28-48B7-A225-E88954081C88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652E0D-C22C-4AFA-8250-402378445019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C29059-7695-44D1-88FA-AFB68345E466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C77F14-AA8A-4B25-AC83-FF01016933DC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C3C09D-7578-418E-9FA7-1752B3667D51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DB98D3-7F5F-4BE8-91EF-DA634BC2456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EA6397-58A6-4E99-B064-25B747EC293A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3B14A4-A36F-47C8-BD6C-77EF6D13CB36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A4833E-7A83-4543-9E6D-B53D17034052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AFE05F-C3A2-4C4B-A8B0-B3ABEB0BC4BC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35CB88-92C5-49E4-8ED1-D49F881F250F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F09A13-EDD3-471C-8453-8894A8E03C56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D1456C-BD3A-4F8A-A7E2-BF99527EF2D8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6BFB7A-511E-458B-B95F-3C70A989653C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0BAD53F-9BAA-42BF-9145-FFB06E52ABBB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A058EFC-699A-417A-808E-FD5DA158A206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C1F6FEB-39C7-41F6-AE54-DD18F637020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61690B-9D2A-4CB9-A162-F9BA5E9ABB54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C820DBF-A4DD-4063-90EA-35836D15CF93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15D18B0-A1EB-40EB-A6AF-14AD4215E6A2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14960D4-3C98-416E-845A-48F7E48FF6D7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F3D4EC9-8907-4F95-982C-298ADC3E6F3C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5AC6437-2222-45BF-BBA3-94A247E2660C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722D620-23CE-4438-9D0A-47E00146D55E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0F9C82E-85D9-45A0-AD37-E01F8C67301B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72B7BD7-0C33-4DCF-A895-005BD055B8AB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AB14337-0DA6-46FA-B363-191110B41697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DD301C7-4961-4066-9262-C6837C7DFCA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7420B6-C976-437A-805D-BDCE7C019277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E3439E1-36B8-4C4D-A9C8-4EC1BB3E14E6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5448F1A-4F72-4146-888C-F0914BA8B973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827377B-6C48-4FA7-9761-E43DC4440F75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2EC3581-1235-44C7-9672-0CCF8904CC1B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D7CD358-DF3E-420F-BAB4-897BF0581C5D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D46E28B-B06C-4A4C-B65F-920FFC50C749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5CCEA18-EC33-40DD-AC0C-7528BDA2D606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20C33A4-3048-4FC5-BC2B-B7DC9F274C6B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9494CD1-86C7-43D2-844A-E763DC73B66F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4C061FD-A287-45AC-B7CE-B8AFDEB1DFC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7DAC66-0401-4050-8D39-306EB7C68602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0EB1CE0-E2F7-4F88-8859-93919C982332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B202C8-34D3-4165-9C2A-0659D31463B7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16283B-73A4-463D-8A32-B08C45F2E284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3F5CBE-6F80-4595-8CFE-1C8F2F4E1F5D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2BAD96-34E2-4FF4-90AD-074A7E9C42ED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1A21AF-0495-447F-A62E-F63247CAEFD0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674236-C25D-4A2C-BF14-808281F1D14A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82D5A1-FE92-43B6-8727-6DDFB01253EC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E4EEDB-F216-41F6-BB89-9C9E4A9DD84B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7CB316-918E-458E-B6BA-FB5C85A203EB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E7F22-5C09-4557-A0CE-B582ED64BF51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CF2DEF-3EA1-435E-A2C3-D1CB8766986B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DA7C54-7A2C-499B-B6E9-8B4D0ED13F17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587160-DB00-4625-8B2F-1CA8CD9461D5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4D5EA66-2C3D-445C-9CE8-20D6BAC80AB9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9A8B91E-071A-45EF-BD3A-58BE8AE1D1B9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7DB66E3-BA99-41D1-A00A-429B77642CD4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D462197-8B76-462A-B248-D0C9FAD7839A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6338ADA-01C8-4747-8515-79127EC7579F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F91BBB1-B607-4577-8A1E-979C00D34306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72BC4F8-9F49-4E22-B7DE-0E7FDC30DBD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0C73E-FC91-4FB9-A36B-D1B8A1523646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B3C68D3-806B-416D-B419-4FE0653E3E60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85711D9-F2AB-4202-9A55-6DD97FA3CDB1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D9FB341-917F-447E-924C-7E65ECACB4CB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4FB4478-8713-42DC-84B0-AB02BCB4B595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6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7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3FCF6CA-E0BB-4D28-8672-FE7404DBB41A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804F98F-CCCE-4A5A-8410-FE992CEDF78A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D67165F-1B5E-4BB9-B450-956D37FBF2AD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AB7E5B8-EF7C-4A07-A119-33CD89BBEDE9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52FCF01-0EBE-45F9-BE7E-04ECD8A40A76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8B93B34-BEA9-4595-A9BF-83CBEC374BC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CEFB5-3EE8-4465-8250-28AF96CC7011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410CE57-A618-4D7A-A558-D9894616F099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A609C6C-6B7E-4F84-BD49-8713CE414754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7C0A066-7603-48B1-B6F6-82109B85A724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B369406-8542-49B4-9B01-C4A23B45653A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4748148-4DCF-4908-BA02-56F3044E3ACB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4BF6CC5-C3BC-490E-8062-5B3310A4DE82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99A8D7F-DDE4-4CCF-87CE-014717C28091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8AC9A5-2555-4838-B12C-74A9AD6BF9E9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EF32DF-65DF-478D-ACFB-129F517D50CE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6A8C6E-73CA-4BE6-91FF-C772E69BC56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E5A42-660B-4877-8F97-8637118009C0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4814CD-7982-4046-9372-82C1CA8D41F2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3C6EA0-C352-4558-AA1B-CA1D92095A84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1C80FB-85CB-498C-BCC6-FC78794E29F9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5C6C8C-3C36-4541-91BA-4CBC0A92CFF1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7F7BF6-A05D-4D72-8B23-46AE81AE9461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FCB964-A2B4-4935-BF21-598AFB17B13F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4B0432-EB64-4609-B817-536B8201C6C0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DBFD66-4D47-47CE-8B06-4C3253E4723F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567F21-85E5-4A94-82FD-F2E400D79CBD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DA87855-8AFE-4B98-A28D-39C195334BC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3995D-CF06-4DF1-896E-FB44E3B475C7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8D52D7E-8182-41AC-B0F1-AFCC5A71E7B6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8012DEB-7741-4A36-8250-948192E85136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C72C85D-1C3A-4B05-A4D6-DBDD251863AC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C03DF03-DA0F-4E8D-8F72-730175D13FCB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1EE67A1-DE12-4311-B42F-AB336E1828D7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8599FB4-0380-482C-83A7-0F0BBB29251C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B42E5E7-782B-48F8-B204-7B161DE59AE9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9EC356B-B2F7-4DF0-AEC0-7A155D25BA30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BF8848E-8A83-4DB3-9E46-CFE77D7A131E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B2055AB-CD33-43DD-A054-47FB086B04A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114355-D463-42F3-9377-25F16EF2880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6722E-09F1-432A-98FD-E5514FC1C68B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FBD7973-8ACC-4D7B-9BE3-2C61829479D4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3FB85E9-FBAB-4BAB-8073-A79459239832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7967AD9-3207-4B75-A577-0D44D0453838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FE822A1-C4E8-47DC-9D72-2E2EDBB74A6D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61AA5A4-E4B7-46DF-A50A-9E991A8D975E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D5844AB-3996-48B5-9698-882C2AFCD3D9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BE1607B-BB04-4591-8CCF-A4F797374F27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AC571F8-9E23-409D-9CD8-1D6D600BBD3C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EABAA08-0255-415A-8B2F-3C8B38DB1705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AB5C0B1-1F07-46A4-9FD6-2AD0CFA1758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E6382-EB1E-4F36-AFC0-4784AC67A159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D2B0011-1458-454C-805D-8081C884EF2F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CEAD55E-AB37-4819-B190-1D4086863E53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E6DAEA1-092C-4FB5-B349-D9774CE98C2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88171-0298-46AB-9939-745242A5852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CF246-5835-4725-8681-2DD29327B91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4F983-9EE6-4277-BF75-CF0E11AFA72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94C96-AABF-4C61-8841-33BA9AC1149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57877-2023-4D73-97D2-084401426F86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6E41F3-75B3-41F7-8685-F7C394E3CF9C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7E3084-B836-47A4-A548-FA2FE6C61F5D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5D7B8D-F4AD-4AB8-ABBC-DE73348C56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99365B-952B-4373-A86E-A1CE81CAF614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1475AB-AC48-4699-8ADC-49F5EE3BC90E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6B109C-6BAC-4573-9553-3F23C297100D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7BA96E-3DB3-4FDC-A7D1-E1BC15F70273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AFC878-760C-4323-BEA0-C93A99C5AEFC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1854FF-0F90-4737-9404-540111F6D788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E44C23-3FC9-4B2C-9CEB-0034AA7A9417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F48C0B-F2B9-4072-AB21-761FBC2348AC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B92BD8-84F6-4749-A2E5-E4C775D58C9F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117DCD-23BA-433D-A187-E62D6AB82C62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68B8E2-B093-4E2D-8331-210E3AD20F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5034AB-1FC9-4687-BA71-792629B63C5C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67339A-7B8B-4654-87E2-51337CDB6598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86CB2D-4DBE-44FF-A6C2-F90583184162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803B07-CDFC-448A-91F5-4CF88C5D7384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8CE861-9472-4079-A455-36CCF58752B6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BFD4A5-9E30-4874-AA8D-7D82DD49E1AA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20B0F7-6EB0-457F-8BFA-5183DC70FB0B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4B436F-C58B-43AF-BD3A-96DA2D3B0B24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DE7633-1E10-405C-B935-557E9956AECE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50F64C-AA62-4E20-AE9A-50EE270BC816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F6218A-DCA3-4F9D-A118-ADB655D105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3E1248-8FAE-4874-BCDC-EA7972726D14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121EA3-D494-4236-B202-3A8CA7E2DAFF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BCCC4-576B-4D00-B9F3-10E9BBFD1532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48A3C-5600-4302-8E79-5025170F3FE8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E4177-7797-4B40-9988-06A8591FE18F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4D6C8-EF09-4CA5-BE36-F7B8120D497C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077E9-E684-42C9-A5DC-1494749DB109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4E962-6F08-4574-8F7C-2CE01511C06E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5A3CF-ADD0-4F46-8CE1-B0BAB66615B2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3017E-726B-43BC-8AF8-4A911CD7C12E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2DBDE-5533-49F5-BD47-B5C9FFCB69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01C3B2-B083-4EB6-8E4B-9E6D7047C72C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27626-E7D8-4EDE-B33A-F93B6EB149FD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99096-F2CE-4ACA-9EFC-07457184F843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F96DC-58AA-48BB-A39D-7F017DA05B47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D0146AF-10B8-49B6-B261-401EDD87023B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3A64E33-7EDD-4CB8-B1B9-270DE2ED3BFD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3577F1C-65E4-4482-808F-78BA7C368B1F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7E330AB-F30A-4F24-9D07-FDFD8C848130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53CEB7B-C823-4B35-8C7E-151789BF55AB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CA51FA3-FB4E-4856-946B-8A95E9D9A78D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CB3B6DD-283A-4959-85BF-AFDB80B472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35060B-5438-4691-869D-3D95DF99E05F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F4AFE10-033A-4E11-9029-6AE7F9399095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F6D5756-A362-4961-935C-0B4E72AD0B07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3823853-DB1D-4A3C-BD4D-E74223AAB14A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8C0CB02-EF43-46E8-86F2-25222B304CE0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D601E0B-83EF-40CD-A43A-452C9A7AF3FD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C3ACBB7-B2C3-4208-A914-02925B6ED78C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F671BEF-F9B6-4E86-83D1-9C335E5DA854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FB6ADEB-0A7B-404B-B912-775E8B17BC38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FE830CB-F7FC-410B-AE8C-F5D530747182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90C5DE3-EAB2-4151-8C77-BC313C5FE4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8A983B-532B-40D5-A2E7-D7EC05E1D0A2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D5EE14C-57DF-45EB-9D67-D55C1C8863B9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4352391-F970-47DB-B73C-19494ECBB9F1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987380-6261-4B2E-9819-236E9C4BEA7C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95E6071-CFA8-40C7-A7D9-68B80B32EAB8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BA0A70F-B8C3-4B8B-BCE8-DF62DB4BB133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AE06206-D351-484B-A47D-075E54711D8B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1FA9F58-B473-4D4A-9D78-035F4869B2E2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DCB128-82BB-4705-9DC3-A3D38CD82DF1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E5F845-853C-480E-BDA4-50559FE22498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5C840F-7614-433F-B51A-9ABE2011CE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41.xml"/><Relationship Id="rId6" Type="http://schemas.openxmlformats.org/officeDocument/2006/relationships/slideLayout" Target="../slideLayouts/slideLayout242.xml"/><Relationship Id="rId7" Type="http://schemas.openxmlformats.org/officeDocument/2006/relationships/slideLayout" Target="../slideLayouts/slideLayout243.xml"/><Relationship Id="rId8" Type="http://schemas.openxmlformats.org/officeDocument/2006/relationships/slideLayout" Target="../slideLayouts/slideLayout244.xml"/><Relationship Id="rId9" Type="http://schemas.openxmlformats.org/officeDocument/2006/relationships/slideLayout" Target="../slideLayouts/slideLayout245.xml"/><Relationship Id="rId10" Type="http://schemas.openxmlformats.org/officeDocument/2006/relationships/slideLayout" Target="../slideLayouts/slideLayout246.xml"/><Relationship Id="rId11" Type="http://schemas.openxmlformats.org/officeDocument/2006/relationships/slideLayout" Target="../slideLayouts/slideLayout247.xml"/><Relationship Id="rId12" Type="http://schemas.openxmlformats.org/officeDocument/2006/relationships/slideLayout" Target="../slideLayouts/slideLayout248.xml"/><Relationship Id="rId13" Type="http://schemas.openxmlformats.org/officeDocument/2006/relationships/slideLayout" Target="../slideLayouts/slideLayout249.xml"/><Relationship Id="rId14" Type="http://schemas.openxmlformats.org/officeDocument/2006/relationships/slideLayout" Target="../slideLayouts/slideLayout250.xml"/><Relationship Id="rId15" Type="http://schemas.openxmlformats.org/officeDocument/2006/relationships/slideLayout" Target="../slideLayouts/slideLayout251.xml"/><Relationship Id="rId16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3.xml"/><Relationship Id="rId6" Type="http://schemas.openxmlformats.org/officeDocument/2006/relationships/slideLayout" Target="../slideLayouts/slideLayout254.xml"/><Relationship Id="rId7" Type="http://schemas.openxmlformats.org/officeDocument/2006/relationships/slideLayout" Target="../slideLayouts/slideLayout255.xml"/><Relationship Id="rId8" Type="http://schemas.openxmlformats.org/officeDocument/2006/relationships/slideLayout" Target="../slideLayouts/slideLayout256.xml"/><Relationship Id="rId9" Type="http://schemas.openxmlformats.org/officeDocument/2006/relationships/slideLayout" Target="../slideLayouts/slideLayout257.xml"/><Relationship Id="rId10" Type="http://schemas.openxmlformats.org/officeDocument/2006/relationships/slideLayout" Target="../slideLayouts/slideLayout258.xml"/><Relationship Id="rId11" Type="http://schemas.openxmlformats.org/officeDocument/2006/relationships/slideLayout" Target="../slideLayouts/slideLayout259.xml"/><Relationship Id="rId12" Type="http://schemas.openxmlformats.org/officeDocument/2006/relationships/slideLayout" Target="../slideLayouts/slideLayout260.xml"/><Relationship Id="rId13" Type="http://schemas.openxmlformats.org/officeDocument/2006/relationships/slideLayout" Target="../slideLayouts/slideLayout261.xml"/><Relationship Id="rId14" Type="http://schemas.openxmlformats.org/officeDocument/2006/relationships/slideLayout" Target="../slideLayouts/slideLayout262.xml"/><Relationship Id="rId15" Type="http://schemas.openxmlformats.org/officeDocument/2006/relationships/slideLayout" Target="../slideLayouts/slideLayout263.xml"/><Relationship Id="rId16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65.xml"/><Relationship Id="rId6" Type="http://schemas.openxmlformats.org/officeDocument/2006/relationships/slideLayout" Target="../slideLayouts/slideLayout266.xml"/><Relationship Id="rId7" Type="http://schemas.openxmlformats.org/officeDocument/2006/relationships/slideLayout" Target="../slideLayouts/slideLayout267.xml"/><Relationship Id="rId8" Type="http://schemas.openxmlformats.org/officeDocument/2006/relationships/slideLayout" Target="../slideLayouts/slideLayout268.xml"/><Relationship Id="rId9" Type="http://schemas.openxmlformats.org/officeDocument/2006/relationships/slideLayout" Target="../slideLayouts/slideLayout269.xml"/><Relationship Id="rId10" Type="http://schemas.openxmlformats.org/officeDocument/2006/relationships/slideLayout" Target="../slideLayouts/slideLayout270.xml"/><Relationship Id="rId11" Type="http://schemas.openxmlformats.org/officeDocument/2006/relationships/slideLayout" Target="../slideLayouts/slideLayout271.xml"/><Relationship Id="rId12" Type="http://schemas.openxmlformats.org/officeDocument/2006/relationships/slideLayout" Target="../slideLayouts/slideLayout272.xml"/><Relationship Id="rId13" Type="http://schemas.openxmlformats.org/officeDocument/2006/relationships/slideLayout" Target="../slideLayouts/slideLayout273.xml"/><Relationship Id="rId14" Type="http://schemas.openxmlformats.org/officeDocument/2006/relationships/slideLayout" Target="../slideLayouts/slideLayout274.xml"/><Relationship Id="rId15" Type="http://schemas.openxmlformats.org/officeDocument/2006/relationships/slideLayout" Target="../slideLayouts/slideLayout275.xml"/><Relationship Id="rId16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77.xml"/><Relationship Id="rId6" Type="http://schemas.openxmlformats.org/officeDocument/2006/relationships/slideLayout" Target="../slideLayouts/slideLayout278.xml"/><Relationship Id="rId7" Type="http://schemas.openxmlformats.org/officeDocument/2006/relationships/slideLayout" Target="../slideLayouts/slideLayout279.xml"/><Relationship Id="rId8" Type="http://schemas.openxmlformats.org/officeDocument/2006/relationships/slideLayout" Target="../slideLayouts/slideLayout280.xml"/><Relationship Id="rId9" Type="http://schemas.openxmlformats.org/officeDocument/2006/relationships/slideLayout" Target="../slideLayouts/slideLayout281.xml"/><Relationship Id="rId10" Type="http://schemas.openxmlformats.org/officeDocument/2006/relationships/slideLayout" Target="../slideLayouts/slideLayout282.xml"/><Relationship Id="rId11" Type="http://schemas.openxmlformats.org/officeDocument/2006/relationships/slideLayout" Target="../slideLayouts/slideLayout283.xml"/><Relationship Id="rId12" Type="http://schemas.openxmlformats.org/officeDocument/2006/relationships/slideLayout" Target="../slideLayouts/slideLayout284.xml"/><Relationship Id="rId13" Type="http://schemas.openxmlformats.org/officeDocument/2006/relationships/slideLayout" Target="../slideLayouts/slideLayout285.xml"/><Relationship Id="rId14" Type="http://schemas.openxmlformats.org/officeDocument/2006/relationships/slideLayout" Target="../slideLayouts/slideLayout286.xml"/><Relationship Id="rId15" Type="http://schemas.openxmlformats.org/officeDocument/2006/relationships/slideLayout" Target="../slideLayouts/slideLayout287.xml"/><Relationship Id="rId16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89.xml"/><Relationship Id="rId6" Type="http://schemas.openxmlformats.org/officeDocument/2006/relationships/slideLayout" Target="../slideLayouts/slideLayout290.xml"/><Relationship Id="rId7" Type="http://schemas.openxmlformats.org/officeDocument/2006/relationships/slideLayout" Target="../slideLayouts/slideLayout291.xml"/><Relationship Id="rId8" Type="http://schemas.openxmlformats.org/officeDocument/2006/relationships/slideLayout" Target="../slideLayouts/slideLayout292.xml"/><Relationship Id="rId9" Type="http://schemas.openxmlformats.org/officeDocument/2006/relationships/slideLayout" Target="../slideLayouts/slideLayout293.xml"/><Relationship Id="rId10" Type="http://schemas.openxmlformats.org/officeDocument/2006/relationships/slideLayout" Target="../slideLayouts/slideLayout294.xml"/><Relationship Id="rId11" Type="http://schemas.openxmlformats.org/officeDocument/2006/relationships/slideLayout" Target="../slideLayouts/slideLayout295.xml"/><Relationship Id="rId12" Type="http://schemas.openxmlformats.org/officeDocument/2006/relationships/slideLayout" Target="../slideLayouts/slideLayout296.xml"/><Relationship Id="rId13" Type="http://schemas.openxmlformats.org/officeDocument/2006/relationships/slideLayout" Target="../slideLayouts/slideLayout297.xml"/><Relationship Id="rId14" Type="http://schemas.openxmlformats.org/officeDocument/2006/relationships/slideLayout" Target="../slideLayouts/slideLayout298.xml"/><Relationship Id="rId15" Type="http://schemas.openxmlformats.org/officeDocument/2006/relationships/slideLayout" Target="../slideLayouts/slideLayout299.xml"/><Relationship Id="rId16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01.xml"/><Relationship Id="rId6" Type="http://schemas.openxmlformats.org/officeDocument/2006/relationships/slideLayout" Target="../slideLayouts/slideLayout302.xml"/><Relationship Id="rId7" Type="http://schemas.openxmlformats.org/officeDocument/2006/relationships/slideLayout" Target="../slideLayouts/slideLayout303.xml"/><Relationship Id="rId8" Type="http://schemas.openxmlformats.org/officeDocument/2006/relationships/slideLayout" Target="../slideLayouts/slideLayout304.xml"/><Relationship Id="rId9" Type="http://schemas.openxmlformats.org/officeDocument/2006/relationships/slideLayout" Target="../slideLayouts/slideLayout305.xml"/><Relationship Id="rId10" Type="http://schemas.openxmlformats.org/officeDocument/2006/relationships/slideLayout" Target="../slideLayouts/slideLayout306.xml"/><Relationship Id="rId11" Type="http://schemas.openxmlformats.org/officeDocument/2006/relationships/slideLayout" Target="../slideLayouts/slideLayout307.xml"/><Relationship Id="rId12" Type="http://schemas.openxmlformats.org/officeDocument/2006/relationships/slideLayout" Target="../slideLayouts/slideLayout308.xml"/><Relationship Id="rId13" Type="http://schemas.openxmlformats.org/officeDocument/2006/relationships/slideLayout" Target="../slideLayouts/slideLayout309.xml"/><Relationship Id="rId14" Type="http://schemas.openxmlformats.org/officeDocument/2006/relationships/slideLayout" Target="../slideLayouts/slideLayout310.xml"/><Relationship Id="rId15" Type="http://schemas.openxmlformats.org/officeDocument/2006/relationships/slideLayout" Target="../slideLayouts/slideLayout311.xml"/><Relationship Id="rId16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0F9D096-3937-450B-B919-CB798D29344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sldNum" idx="1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CDB4A2-9A01-4A50-993A-410EB6B713D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23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sldNum" idx="1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EF0059-2C4E-4E6E-9E52-5BA2632F5FA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65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sldNum" idx="1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9048BEC-D0D2-4A15-B438-DA07506B7EB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07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sldNum" idx="1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6A92848-1533-438C-A6E7-B6B5AF18C2A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sldNum" idx="1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D08EA2C-1B6C-4351-93B0-E598BC299EA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92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3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sldNum" idx="1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92052D-F7AA-4739-AFD8-C08EA7857C6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35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 type="sldNum" idx="1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80B7C3-EDF2-4F09-91B8-DFB01895874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78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9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sldNum" idx="1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D323E57-FDB3-4DCC-ADE8-FB2A849768E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21" name="Rectangle 6"/>
          <p:cNvSpPr/>
          <p:nvPr/>
        </p:nvSpPr>
        <p:spPr>
          <a:xfrm>
            <a:off x="249120" y="269568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Rectangle 9"/>
          <p:cNvSpPr/>
          <p:nvPr/>
        </p:nvSpPr>
        <p:spPr>
          <a:xfrm>
            <a:off x="247680" y="895320"/>
            <a:ext cx="864072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 type="sldNum" idx="1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78A0A73-777B-4DD5-AD47-EAB11212B33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6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sldNum" idx="1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EC27008-6AF5-4C41-B03C-F831B17DE03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4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AC1A32-F62D-40D5-934D-FFF26D7A453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09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 type="sldNum" idx="2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8F36A1-078D-4C73-89E6-0DCBD9D3883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5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5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 type="sldNum" idx="2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6E5778A-3DAB-4678-9A62-632BE69FCA0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5"/>
    <p:sldLayoutId id="2147483910" r:id="rId6"/>
    <p:sldLayoutId id="2147483911" r:id="rId7"/>
    <p:sldLayoutId id="2147483912" r:id="rId8"/>
    <p:sldLayoutId id="2147483913" r:id="rId9"/>
    <p:sldLayoutId id="2147483914" r:id="rId10"/>
    <p:sldLayoutId id="2147483915" r:id="rId11"/>
    <p:sldLayoutId id="2147483916" r:id="rId12"/>
    <p:sldLayoutId id="2147483917" r:id="rId13"/>
    <p:sldLayoutId id="2147483918" r:id="rId14"/>
    <p:sldLayoutId id="2147483919" r:id="rId15"/>
    <p:sldLayoutId id="2147483920" r:id="rId16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9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 type="sldNum" idx="2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E0CCECC-D765-4564-BC1F-083C4B8E6FF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5"/>
    <p:sldLayoutId id="2147483923" r:id="rId6"/>
    <p:sldLayoutId id="2147483924" r:id="rId7"/>
    <p:sldLayoutId id="2147483925" r:id="rId8"/>
    <p:sldLayoutId id="2147483926" r:id="rId9"/>
    <p:sldLayoutId id="2147483927" r:id="rId10"/>
    <p:sldLayoutId id="2147483928" r:id="rId11"/>
    <p:sldLayoutId id="2147483929" r:id="rId12"/>
    <p:sldLayoutId id="2147483930" r:id="rId13"/>
    <p:sldLayoutId id="2147483931" r:id="rId14"/>
    <p:sldLayoutId id="2147483932" r:id="rId15"/>
    <p:sldLayoutId id="2147483933" r:id="rId16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 type="sldNum" idx="2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A98FDE-7E44-4F4A-AD13-C4D1BEAED1E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5"/>
    <p:sldLayoutId id="2147483936" r:id="rId6"/>
    <p:sldLayoutId id="2147483937" r:id="rId7"/>
    <p:sldLayoutId id="2147483938" r:id="rId8"/>
    <p:sldLayoutId id="2147483939" r:id="rId9"/>
    <p:sldLayoutId id="2147483940" r:id="rId10"/>
    <p:sldLayoutId id="2147483941" r:id="rId11"/>
    <p:sldLayoutId id="2147483942" r:id="rId12"/>
    <p:sldLayoutId id="2147483943" r:id="rId13"/>
    <p:sldLayoutId id="2147483944" r:id="rId14"/>
    <p:sldLayoutId id="2147483945" r:id="rId15"/>
    <p:sldLayoutId id="2147483946" r:id="rId16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 type="sldNum" idx="2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D54E68-8A83-4166-B2F7-6673285F70F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5"/>
    <p:sldLayoutId id="2147483949" r:id="rId6"/>
    <p:sldLayoutId id="2147483950" r:id="rId7"/>
    <p:sldLayoutId id="2147483951" r:id="rId8"/>
    <p:sldLayoutId id="2147483952" r:id="rId9"/>
    <p:sldLayoutId id="2147483953" r:id="rId10"/>
    <p:sldLayoutId id="2147483954" r:id="rId11"/>
    <p:sldLayoutId id="2147483955" r:id="rId12"/>
    <p:sldLayoutId id="2147483956" r:id="rId13"/>
    <p:sldLayoutId id="2147483957" r:id="rId14"/>
    <p:sldLayoutId id="2147483958" r:id="rId15"/>
    <p:sldLayoutId id="2147483959" r:id="rId16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23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4" name="Rectangle 8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sldNum" idx="2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D6B464-557A-4D36-AF22-1DBB4FA00D8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5"/>
    <p:sldLayoutId id="2147483962" r:id="rId6"/>
    <p:sldLayoutId id="2147483963" r:id="rId7"/>
    <p:sldLayoutId id="2147483964" r:id="rId8"/>
    <p:sldLayoutId id="2147483965" r:id="rId9"/>
    <p:sldLayoutId id="2147483966" r:id="rId10"/>
    <p:sldLayoutId id="2147483967" r:id="rId11"/>
    <p:sldLayoutId id="2147483968" r:id="rId12"/>
    <p:sldLayoutId id="2147483969" r:id="rId13"/>
    <p:sldLayoutId id="2147483970" r:id="rId14"/>
    <p:sldLayoutId id="2147483971" r:id="rId15"/>
    <p:sldLayoutId id="2147483972" r:id="rId16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66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 type="sldNum" idx="2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CBD8EF2-2CEE-4261-9AF8-370D18ECD07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5"/>
    <p:sldLayoutId id="2147483975" r:id="rId6"/>
    <p:sldLayoutId id="2147483976" r:id="rId7"/>
    <p:sldLayoutId id="2147483977" r:id="rId8"/>
    <p:sldLayoutId id="2147483978" r:id="rId9"/>
    <p:sldLayoutId id="2147483979" r:id="rId10"/>
    <p:sldLayoutId id="2147483980" r:id="rId11"/>
    <p:sldLayoutId id="2147483981" r:id="rId12"/>
    <p:sldLayoutId id="2147483982" r:id="rId13"/>
    <p:sldLayoutId id="2147483983" r:id="rId14"/>
    <p:sldLayoutId id="2147483984" r:id="rId15"/>
    <p:sldLayoutId id="2147483985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1B33AB-48CD-438C-9D42-3755321124C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EAC3033-22D1-4A72-B440-8FDAAF71E38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087495-A3D2-4D01-AF39-DCF65BC62F5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0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Num" idx="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4AB487-5955-4F47-A028-8FC79A3F8A5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3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A92176-4FDB-42AB-A9E1-5AA5033C8EC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6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sldNum" idx="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297432-799A-4530-8375-CC70327D3B1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sldNum" idx="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DC0A069-91EC-482C-AE3A-A83C0ACA9D0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27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9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277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0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25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2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3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328760"/>
          </a:xfrm>
          <a:prstGeom prst="rect">
            <a:avLst/>
          </a:prstGeom>
          <a:ln w="0">
            <a:noFill/>
          </a:ln>
        </p:spPr>
      </p:pic>
      <p:sp>
        <p:nvSpPr>
          <p:cNvPr id="111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4523CB-0DCF-41BD-9FA6-E736811F091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5" name="PlaceHolder 1"/>
          <p:cNvSpPr>
            <a:spLocks noGrp="1"/>
          </p:cNvSpPr>
          <p:nvPr>
            <p:ph/>
          </p:nvPr>
        </p:nvSpPr>
        <p:spPr>
          <a:xfrm>
            <a:off x="429840" y="1450440"/>
            <a:ext cx="8386920" cy="40356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Brian 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29840" y="1800000"/>
            <a:ext cx="8386920" cy="40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lfresco Product Architec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29840" y="2263680"/>
            <a:ext cx="8386920" cy="457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 fontScale="75000"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B1C9D4-FA5C-4450-9294-DC652DF0829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corresponding data list for feedback (auto-created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New entries are periodically processed – each type of feedback can have its own handler defin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mmen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mmen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ntac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ntact Reques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1" name="TextBox 6"/>
          <p:cNvSpPr/>
          <p:nvPr/>
        </p:nvSpPr>
        <p:spPr>
          <a:xfrm>
            <a:off x="249120" y="5113440"/>
            <a:ext cx="863928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8585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bean id=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"commentFeedbackProcessorHandler" 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parent="feedbackProcessorHandler"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       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class="org.alfresco.module.org_alfresco_module_wcmquickstart.jobs.feedback.CommentFeedbackProcessorHandler"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&lt;property name=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"feedbackType" value="Comment"  /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/bean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2" name="Picture 2" descr="C:\Users\Brian\Documents\alfresco\cheetah\wcmqs-devguide\feedback-processor.png"/>
          <p:cNvPicPr/>
          <p:nvPr/>
        </p:nvPicPr>
        <p:blipFill>
          <a:blip r:embed="rId2"/>
          <a:stretch/>
        </p:blipFill>
        <p:spPr>
          <a:xfrm>
            <a:off x="4730760" y="1189080"/>
            <a:ext cx="404028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D23ACB1-9230-41EC-8E91-CF978227B8F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5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publishing queu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WQS has a PublishService that processes the queu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actions defined: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Tree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and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”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workflows defined that use the action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Queues are published periodically – every minute by default (override with property </a:t>
            </a: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wcmqs.publishQueueProcessor.schedule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node may specify another website node that it publishes 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6" name="Straight Connector 5"/>
          <p:cNvSpPr/>
          <p:nvPr/>
        </p:nvSpPr>
        <p:spPr>
          <a:xfrm>
            <a:off x="8888400" y="2814480"/>
            <a:ext cx="0" cy="3121200"/>
          </a:xfrm>
          <a:prstGeom prst="line">
            <a:avLst/>
          </a:prstGeom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7" name="Picture 3" descr=""/>
          <p:cNvPicPr/>
          <p:nvPr/>
        </p:nvPicPr>
        <p:blipFill>
          <a:blip r:embed="rId2"/>
          <a:stretch/>
        </p:blipFill>
        <p:spPr>
          <a:xfrm>
            <a:off x="3021120" y="4497480"/>
            <a:ext cx="140976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8" name="Title 6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94827CA-42C9-49E1-A14B-A77E6BF4040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Override map of available ACP files using a bean named 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i="1" lang="en-GB" sz="1600" spc="-1" strike="noStrike">
                <a:solidFill>
                  <a:srgbClr val="333333"/>
                </a:solidFill>
                <a:latin typeface="Courier New"/>
              </a:rPr>
              <a:t>wqsmodule_siteImportFileLocations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171" name="Picture 2" descr=""/>
          <p:cNvPicPr/>
          <p:nvPr/>
        </p:nvPicPr>
        <p:blipFill>
          <a:blip r:embed="rId2"/>
          <a:stretch/>
        </p:blipFill>
        <p:spPr>
          <a:xfrm>
            <a:off x="339840" y="3105000"/>
            <a:ext cx="6056280" cy="14018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2" name="Picture 3" descr=""/>
          <p:cNvPicPr/>
          <p:nvPr/>
        </p:nvPicPr>
        <p:blipFill>
          <a:blip r:embed="rId3"/>
          <a:stretch/>
        </p:blipFill>
        <p:spPr>
          <a:xfrm>
            <a:off x="4016520" y="1906560"/>
            <a:ext cx="4695840" cy="885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3" name="Picture 4" descr=""/>
          <p:cNvPicPr/>
          <p:nvPr/>
        </p:nvPicPr>
        <p:blipFill>
          <a:blip r:embed="rId4"/>
          <a:stretch/>
        </p:blipFill>
        <p:spPr>
          <a:xfrm>
            <a:off x="771480" y="4935600"/>
            <a:ext cx="7581960" cy="604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0D3F1BE-D2FE-42B9-AF55-5D077E00E88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176" name="Group 1039"/>
          <p:cNvGrpSpPr/>
          <p:nvPr/>
        </p:nvGrpSpPr>
        <p:grpSpPr>
          <a:xfrm>
            <a:off x="3328920" y="1265400"/>
            <a:ext cx="1851120" cy="3873240"/>
            <a:chOff x="3328920" y="1265400"/>
            <a:chExt cx="1851120" cy="3873240"/>
          </a:xfrm>
        </p:grpSpPr>
        <p:grpSp>
          <p:nvGrpSpPr>
            <p:cNvPr id="1177" name="Rounded Rectangle 20"/>
            <p:cNvGrpSpPr/>
            <p:nvPr/>
          </p:nvGrpSpPr>
          <p:grpSpPr>
            <a:xfrm>
              <a:off x="3328920" y="2755800"/>
              <a:ext cx="1851120" cy="737280"/>
              <a:chOff x="3328920" y="2755800"/>
              <a:chExt cx="1851120" cy="737280"/>
            </a:xfrm>
          </p:grpSpPr>
          <p:pic>
            <p:nvPicPr>
              <p:cNvPr id="1178" name="Rounded Rectangle 20" descr=""/>
              <p:cNvPicPr/>
              <p:nvPr/>
            </p:nvPicPr>
            <p:blipFill>
              <a:blip r:embed="rId2"/>
              <a:stretch/>
            </p:blipFill>
            <p:spPr>
              <a:xfrm>
                <a:off x="3328920" y="275580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9" name=""/>
              <p:cNvSpPr/>
              <p:nvPr/>
            </p:nvSpPr>
            <p:spPr>
              <a:xfrm>
                <a:off x="3438000" y="28839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GB" sz="1600" spc="-1" strike="noStrike">
                    <a:solidFill>
                      <a:srgbClr val="4a452a"/>
                    </a:solidFill>
                    <a:latin typeface="Arial"/>
                    <a:ea typeface="ヒラギノ角ゴ ProN W3"/>
                  </a:rPr>
                  <a:t>WQS API</a:t>
                </a:r>
                <a:endParaRPr b="0" lang="en-US" sz="1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80" name="Group 1023"/>
            <p:cNvGrpSpPr/>
            <p:nvPr/>
          </p:nvGrpSpPr>
          <p:grpSpPr>
            <a:xfrm>
              <a:off x="3406320" y="4329720"/>
              <a:ext cx="1541880" cy="808920"/>
              <a:chOff x="3406320" y="4329720"/>
              <a:chExt cx="1541880" cy="808920"/>
            </a:xfrm>
          </p:grpSpPr>
          <p:grpSp>
            <p:nvGrpSpPr>
              <p:cNvPr id="1181" name="Rounded Rectangle 25"/>
              <p:cNvGrpSpPr/>
              <p:nvPr/>
            </p:nvGrpSpPr>
            <p:grpSpPr>
              <a:xfrm>
                <a:off x="3406320" y="4329720"/>
                <a:ext cx="1541880" cy="808920"/>
                <a:chOff x="3406320" y="4329720"/>
                <a:chExt cx="1541880" cy="808920"/>
              </a:xfrm>
            </p:grpSpPr>
            <p:pic>
              <p:nvPicPr>
                <p:cNvPr id="1182" name="Rounded Rectangle 2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406320" y="4329720"/>
                  <a:ext cx="1541880" cy="808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3" name=""/>
                <p:cNvSpPr/>
                <p:nvPr/>
              </p:nvSpPr>
              <p:spPr>
                <a:xfrm>
                  <a:off x="3511440" y="4434840"/>
                  <a:ext cx="122904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4" name="Picture 5" descr="C:\Users\Brian\Documents\alfresco\devcon2010\alfresco-logo.gif"/>
              <p:cNvPicPr/>
              <p:nvPr/>
            </p:nvPicPr>
            <p:blipFill>
              <a:blip r:embed="rId4"/>
              <a:stretch/>
            </p:blipFill>
            <p:spPr>
              <a:xfrm>
                <a:off x="3544920" y="4523760"/>
                <a:ext cx="1161360" cy="332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85" name="Group 1033"/>
            <p:cNvGrpSpPr/>
            <p:nvPr/>
          </p:nvGrpSpPr>
          <p:grpSpPr>
            <a:xfrm>
              <a:off x="3421800" y="2336760"/>
              <a:ext cx="1541880" cy="395640"/>
              <a:chOff x="3421800" y="2336760"/>
              <a:chExt cx="1541880" cy="395640"/>
            </a:xfrm>
          </p:grpSpPr>
          <p:grpSp>
            <p:nvGrpSpPr>
              <p:cNvPr id="1186" name="Rounded Rectangle 6"/>
              <p:cNvGrpSpPr/>
              <p:nvPr/>
            </p:nvGrpSpPr>
            <p:grpSpPr>
              <a:xfrm>
                <a:off x="3421800" y="2336760"/>
                <a:ext cx="1541880" cy="395640"/>
                <a:chOff x="3421800" y="2336760"/>
                <a:chExt cx="1541880" cy="395640"/>
              </a:xfrm>
            </p:grpSpPr>
            <p:pic>
              <p:nvPicPr>
                <p:cNvPr id="1187" name="Rounded Rectangle 6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421800" y="233676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8" name=""/>
                <p:cNvSpPr/>
                <p:nvPr/>
              </p:nvSpPr>
              <p:spPr>
                <a:xfrm>
                  <a:off x="3512520" y="240660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9" name="Picture 6" descr="C:\Users\Brian\Documents\alfresco\devcon2010\springsource-logo.gif"/>
              <p:cNvPicPr/>
              <p:nvPr/>
            </p:nvPicPr>
            <p:blipFill>
              <a:blip r:embed="rId6"/>
              <a:stretch/>
            </p:blipFill>
            <p:spPr>
              <a:xfrm>
                <a:off x="3510000" y="2423520"/>
                <a:ext cx="1236960" cy="149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90" name="Rounded Rectangle 10"/>
            <p:cNvGrpSpPr/>
            <p:nvPr/>
          </p:nvGrpSpPr>
          <p:grpSpPr>
            <a:xfrm>
              <a:off x="3328920" y="1701360"/>
              <a:ext cx="1851120" cy="737280"/>
              <a:chOff x="3328920" y="1701360"/>
              <a:chExt cx="1851120" cy="737280"/>
            </a:xfrm>
          </p:grpSpPr>
          <p:pic>
            <p:nvPicPr>
              <p:cNvPr id="1191" name="Rounded Rectangle 10" descr=""/>
              <p:cNvPicPr/>
              <p:nvPr/>
            </p:nvPicPr>
            <p:blipFill>
              <a:blip r:embed="rId7"/>
              <a:stretch/>
            </p:blipFill>
            <p:spPr>
              <a:xfrm>
                <a:off x="3328920" y="170136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2" name=""/>
              <p:cNvSpPr/>
              <p:nvPr/>
            </p:nvSpPr>
            <p:spPr>
              <a:xfrm>
                <a:off x="3438000" y="18327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93" name="Group 1024"/>
            <p:cNvGrpSpPr/>
            <p:nvPr/>
          </p:nvGrpSpPr>
          <p:grpSpPr>
            <a:xfrm>
              <a:off x="3421800" y="1265400"/>
              <a:ext cx="1541880" cy="395640"/>
              <a:chOff x="3421800" y="1265400"/>
              <a:chExt cx="1541880" cy="395640"/>
            </a:xfrm>
          </p:grpSpPr>
          <p:grpSp>
            <p:nvGrpSpPr>
              <p:cNvPr id="1194" name="Rounded Rectangle 14"/>
              <p:cNvGrpSpPr/>
              <p:nvPr/>
            </p:nvGrpSpPr>
            <p:grpSpPr>
              <a:xfrm>
                <a:off x="3421800" y="1265400"/>
                <a:ext cx="1541880" cy="395640"/>
                <a:chOff x="3421800" y="1265400"/>
                <a:chExt cx="1541880" cy="395640"/>
              </a:xfrm>
            </p:grpSpPr>
            <p:pic>
              <p:nvPicPr>
                <p:cNvPr id="1195" name="Rounded Rectangle 1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3421800" y="126540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6" name=""/>
                <p:cNvSpPr/>
                <p:nvPr/>
              </p:nvSpPr>
              <p:spPr>
                <a:xfrm>
                  <a:off x="3512520" y="133596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97" name="Picture 8" descr="C:\Users\Brian\Documents\alfresco\devcon2010\freemarker-logo.gif"/>
              <p:cNvPicPr/>
              <p:nvPr/>
            </p:nvPicPr>
            <p:blipFill>
              <a:blip r:embed="rId9"/>
              <a:stretch/>
            </p:blipFill>
            <p:spPr>
              <a:xfrm>
                <a:off x="3695040" y="1383480"/>
                <a:ext cx="866880" cy="964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98" name="Down Arrow 30"/>
            <p:cNvSpPr/>
            <p:nvPr/>
          </p:nvSpPr>
          <p:spPr>
            <a:xfrm>
              <a:off x="3971880" y="3534840"/>
              <a:ext cx="441360" cy="631800"/>
            </a:xfrm>
            <a:prstGeom prst="downArrow">
              <a:avLst>
                <a:gd name="adj1" fmla="val 50000"/>
                <a:gd name="adj2" fmla="val 59420"/>
              </a:avLst>
            </a:prstGeom>
            <a:gradFill rotWithShape="0">
              <a:gsLst>
                <a:gs pos="0">
                  <a:srgbClr val="0085e0"/>
                </a:gs>
                <a:gs pos="100000">
                  <a:srgbClr val="89c2ff"/>
                </a:gs>
              </a:gsLst>
              <a:lin ang="16200000"/>
            </a:gradFill>
            <a:ln w="9360">
              <a:solidFill>
                <a:srgbClr val="007bc3"/>
              </a:solidFill>
              <a:miter/>
            </a:ln>
            <a:effectLst>
              <a:outerShdw dist="63639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199" name="Picture 9" descr="C:\Users\Brian\Documents\alfresco\devcon2010\surf-logo.gif"/>
            <p:cNvPicPr/>
            <p:nvPr/>
          </p:nvPicPr>
          <p:blipFill>
            <a:blip r:embed="rId10"/>
            <a:stretch/>
          </p:blipFill>
          <p:spPr>
            <a:xfrm>
              <a:off x="3842280" y="1848600"/>
              <a:ext cx="669600" cy="323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0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935825F-4253-4F95-A6B4-32058DD1F0C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Bean “webSiteService” is a good starting point: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grpSp>
        <p:nvGrpSpPr>
          <p:cNvPr id="1203" name="Group 17"/>
          <p:cNvGrpSpPr/>
          <p:nvPr/>
        </p:nvGrpSpPr>
        <p:grpSpPr>
          <a:xfrm>
            <a:off x="5148360" y="1003320"/>
            <a:ext cx="3678120" cy="2128680"/>
            <a:chOff x="5148360" y="1003320"/>
            <a:chExt cx="3678120" cy="2128680"/>
          </a:xfrm>
        </p:grpSpPr>
        <p:pic>
          <p:nvPicPr>
            <p:cNvPr id="1204" name="Picture 5" descr="C:\Users\Brian\Documents\alfresco\cheetah\wcmqs-devguide\wcmqs-basic-model-cropped.png"/>
            <p:cNvPicPr/>
            <p:nvPr/>
          </p:nvPicPr>
          <p:blipFill>
            <a:blip r:embed="rId2"/>
            <a:stretch/>
          </p:blipFill>
          <p:spPr>
            <a:xfrm>
              <a:off x="5148360" y="1003320"/>
              <a:ext cx="3678120" cy="21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5" name="Rectangle 12"/>
            <p:cNvSpPr/>
            <p:nvPr/>
          </p:nvSpPr>
          <p:spPr>
            <a:xfrm>
              <a:off x="563292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6" name="Rectangle 15"/>
            <p:cNvSpPr/>
            <p:nvPr/>
          </p:nvSpPr>
          <p:spPr>
            <a:xfrm>
              <a:off x="725868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7" name="Rectangle 16"/>
            <p:cNvSpPr/>
            <p:nvPr/>
          </p:nvSpPr>
          <p:spPr>
            <a:xfrm>
              <a:off x="6584040" y="2335320"/>
              <a:ext cx="509400" cy="16812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pic>
        <p:nvPicPr>
          <p:cNvPr id="1208" name="Picture 2" descr=""/>
          <p:cNvPicPr/>
          <p:nvPr/>
        </p:nvPicPr>
        <p:blipFill>
          <a:blip r:embed="rId3"/>
          <a:stretch/>
        </p:blipFill>
        <p:spPr>
          <a:xfrm>
            <a:off x="247680" y="3294000"/>
            <a:ext cx="8648640" cy="2641680"/>
          </a:xfrm>
          <a:prstGeom prst="rect">
            <a:avLst/>
          </a:prstGeom>
          <a:ln w="9360">
            <a:solidFill>
              <a:srgbClr val="adada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9" name="Title 1" descr=""/>
          <p:cNvPicPr/>
          <p:nvPr/>
        </p:nvPicPr>
        <p:blipFill>
          <a:blip r:embed="rId1"/>
          <a:stretch/>
        </p:blipFill>
        <p:spPr>
          <a:xfrm>
            <a:off x="0" y="23760"/>
            <a:ext cx="8888400" cy="860400"/>
          </a:xfrm>
          <a:prstGeom prst="rect">
            <a:avLst/>
          </a:prstGeom>
          <a:ln w="0">
            <a:noFill/>
          </a:ln>
        </p:spPr>
      </p:pic>
      <p:sp>
        <p:nvSpPr>
          <p:cNvPr id="121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134825-F0FE-4982-8E9C-BB864EA7CB5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1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2" name="Rectangle 4"/>
          <p:cNvSpPr/>
          <p:nvPr/>
        </p:nvSpPr>
        <p:spPr>
          <a:xfrm>
            <a:off x="4381560" y="3979800"/>
            <a:ext cx="388800" cy="19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13" name="Picture 3" descr=""/>
          <p:cNvPicPr/>
          <p:nvPr/>
        </p:nvPicPr>
        <p:blipFill>
          <a:blip r:embed="rId2"/>
          <a:stretch/>
        </p:blipFill>
        <p:spPr>
          <a:xfrm>
            <a:off x="272880" y="923760"/>
            <a:ext cx="8493120" cy="3681720"/>
          </a:xfrm>
          <a:prstGeom prst="rect">
            <a:avLst/>
          </a:prstGeom>
          <a:ln w="0">
            <a:noFill/>
          </a:ln>
        </p:spPr>
      </p:pic>
      <p:pic>
        <p:nvPicPr>
          <p:cNvPr id="1214" name="Group 3" descr=""/>
          <p:cNvPicPr/>
          <p:nvPr/>
        </p:nvPicPr>
        <p:blipFill>
          <a:blip r:embed="rId3"/>
          <a:stretch/>
        </p:blipFill>
        <p:spPr>
          <a:xfrm>
            <a:off x="2382840" y="4224240"/>
            <a:ext cx="41940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1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9F99CBD-CE8E-4A62-AD25-EBD104D4ED4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7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Friendly” URLs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quested URL is parsed to find the website, section, and asset that are being address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ww.example.com/news/global/financial_outlook_goo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solved API objects are stored on the request context with the names “website”, “section”, and “asset” for use by page components.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8" name="Straight Connector 10"/>
          <p:cNvSpPr/>
          <p:nvPr/>
        </p:nvSpPr>
        <p:spPr>
          <a:xfrm>
            <a:off x="977760" y="3179880"/>
            <a:ext cx="2497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9" name="Straight Connector 12"/>
          <p:cNvSpPr/>
          <p:nvPr/>
        </p:nvSpPr>
        <p:spPr>
          <a:xfrm>
            <a:off x="3475080" y="3602160"/>
            <a:ext cx="178920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0" name="Straight Connector 15"/>
          <p:cNvSpPr/>
          <p:nvPr/>
        </p:nvSpPr>
        <p:spPr>
          <a:xfrm>
            <a:off x="5264280" y="3179880"/>
            <a:ext cx="3100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1" name="Straight Connector 17"/>
          <p:cNvSpPr/>
          <p:nvPr/>
        </p:nvSpPr>
        <p:spPr>
          <a:xfrm>
            <a:off x="22255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2" name="Straight Connector 19"/>
          <p:cNvSpPr/>
          <p:nvPr/>
        </p:nvSpPr>
        <p:spPr>
          <a:xfrm>
            <a:off x="68137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3" name="Straight Connector 21"/>
          <p:cNvSpPr/>
          <p:nvPr/>
        </p:nvSpPr>
        <p:spPr>
          <a:xfrm>
            <a:off x="4368960" y="3602160"/>
            <a:ext cx="0" cy="17460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4" name="TextBox 25"/>
          <p:cNvSpPr/>
          <p:nvPr/>
        </p:nvSpPr>
        <p:spPr>
          <a:xfrm>
            <a:off x="1786320" y="2735280"/>
            <a:ext cx="86940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websi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5" name="TextBox 26"/>
          <p:cNvSpPr/>
          <p:nvPr/>
        </p:nvSpPr>
        <p:spPr>
          <a:xfrm>
            <a:off x="3934440" y="3730680"/>
            <a:ext cx="82548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sectio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6" name="TextBox 27"/>
          <p:cNvSpPr/>
          <p:nvPr/>
        </p:nvSpPr>
        <p:spPr>
          <a:xfrm>
            <a:off x="6465240" y="2743200"/>
            <a:ext cx="66672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333333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asset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2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A3BF1D2-5D52-4D49-BBCF-497EDB792F2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ired in to respond whenever an asset has been resolv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Discovers the page name to be used to render the asse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Each section may define template mappings from asset type to view name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Searches up the type hierarchy first, then the section hierarchy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3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231" name="Picture 3" descr=""/>
          <p:cNvPicPr/>
          <p:nvPr/>
        </p:nvPicPr>
        <p:blipFill>
          <a:blip r:embed="rId2"/>
          <a:stretch/>
        </p:blipFill>
        <p:spPr>
          <a:xfrm>
            <a:off x="4695840" y="1301760"/>
            <a:ext cx="4132080" cy="3780000"/>
          </a:xfrm>
          <a:prstGeom prst="rect">
            <a:avLst/>
          </a:prstGeom>
          <a:ln w="0">
            <a:noFill/>
          </a:ln>
        </p:spPr>
      </p:pic>
      <p:sp>
        <p:nvSpPr>
          <p:cNvPr id="1232" name="Rectangle 6"/>
          <p:cNvSpPr/>
          <p:nvPr/>
        </p:nvSpPr>
        <p:spPr>
          <a:xfrm>
            <a:off x="4786200" y="3379680"/>
            <a:ext cx="3197160" cy="658800"/>
          </a:xfrm>
          <a:prstGeom prst="rect">
            <a:avLst/>
          </a:prstGeom>
          <a:noFill/>
          <a:ln w="15840">
            <a:solidFill>
              <a:srgbClr val="38ff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3" name="Picture 4" descr=""/>
          <p:cNvPicPr/>
          <p:nvPr/>
        </p:nvPicPr>
        <p:blipFill>
          <a:blip r:embed="rId3"/>
          <a:stretch/>
        </p:blipFill>
        <p:spPr>
          <a:xfrm>
            <a:off x="4813200" y="3409920"/>
            <a:ext cx="310680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E0099E0-D255-4714-8AFA-25A0FBCCBD2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6" name="Picture 5" descr="C:\Users\Brian\Documents\alfresco\cheetah\wcmqs-devguide\wqs-webapp-sequence1.png"/>
          <p:cNvPicPr/>
          <p:nvPr/>
        </p:nvPicPr>
        <p:blipFill>
          <a:blip r:embed="rId2"/>
          <a:stretch/>
        </p:blipFill>
        <p:spPr>
          <a:xfrm>
            <a:off x="0" y="954000"/>
            <a:ext cx="9144000" cy="48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B3F46D-2D0F-4BDD-8CC0-B9672E9092C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9" name="Picture 5" descr=""/>
          <p:cNvPicPr/>
          <p:nvPr/>
        </p:nvPicPr>
        <p:blipFill>
          <a:blip r:embed="rId2"/>
          <a:stretch/>
        </p:blipFill>
        <p:spPr>
          <a:xfrm>
            <a:off x="760320" y="1089000"/>
            <a:ext cx="1428840" cy="174312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1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810A331-9408-4425-A22B-E7581A444D5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0" name="PlaceHolder 1"/>
          <p:cNvSpPr>
            <a:spLocks noGrp="1"/>
          </p:cNvSpPr>
          <p:nvPr>
            <p:ph/>
          </p:nvPr>
        </p:nvSpPr>
        <p:spPr>
          <a:xfrm>
            <a:off x="249120" y="1460160"/>
            <a:ext cx="8639280" cy="44751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 demonstr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 Web Quick Start mod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features in the repository ti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sample web applic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rimary goal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49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o show you how Web Quick Start works so you can start to use it and extend i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249120" y="894960"/>
            <a:ext cx="8639280" cy="53820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7dc3"/>
                </a:solidFill>
                <a:latin typeface="Arial"/>
              </a:rPr>
              <a:t>What we’ll cov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FD49117-AD5B-4818-87ED-4842D3554C3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2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3" name="Picture 7" descr=""/>
          <p:cNvPicPr/>
          <p:nvPr/>
        </p:nvPicPr>
        <p:blipFill>
          <a:blip r:embed="rId3"/>
          <a:stretch/>
        </p:blipFill>
        <p:spPr>
          <a:xfrm>
            <a:off x="687240" y="955800"/>
            <a:ext cx="171468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44" name="TextBox 3"/>
          <p:cNvSpPr/>
          <p:nvPr/>
        </p:nvSpPr>
        <p:spPr>
          <a:xfrm>
            <a:off x="3131640" y="144792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ink of “templates” as layouts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with holes cut out (“regions”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3BA70D-BF74-44CB-8DA9-D201B77F3B5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7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8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9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0" name="TextBox 3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1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5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DAC001-D02C-485F-80D6-052A32CE04B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53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4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5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6" name="Picture 9" descr=""/>
          <p:cNvPicPr/>
          <p:nvPr/>
        </p:nvPicPr>
        <p:blipFill>
          <a:blip r:embed="rId5"/>
          <a:stretch/>
        </p:blipFill>
        <p:spPr>
          <a:xfrm>
            <a:off x="833400" y="1816200"/>
            <a:ext cx="1914480" cy="1428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7" name="TextBox 3"/>
          <p:cNvSpPr/>
          <p:nvPr/>
        </p:nvSpPr>
        <p:spPr>
          <a:xfrm>
            <a:off x="2643840" y="3648240"/>
            <a:ext cx="30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or example, there are tw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that ren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rticle details: “article/style1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nd “article/style2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8" name="TextBox 9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4375FD5-8CA8-4B0F-B396-6901393DD63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1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2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3" name="Picture 8" descr=""/>
          <p:cNvPicPr/>
          <p:nvPr/>
        </p:nvPicPr>
        <p:blipFill>
          <a:blip r:embed="rId4"/>
          <a:stretch/>
        </p:blipFill>
        <p:spPr>
          <a:xfrm>
            <a:off x="3892680" y="2481120"/>
            <a:ext cx="1638000" cy="38102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4" name="Picture 9" descr=""/>
          <p:cNvPicPr/>
          <p:nvPr/>
        </p:nvPicPr>
        <p:blipFill>
          <a:blip r:embed="rId5"/>
          <a:stretch/>
        </p:blipFill>
        <p:spPr>
          <a:xfrm>
            <a:off x="4092480" y="3341520"/>
            <a:ext cx="1914480" cy="14288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5" name="Picture 6" descr=""/>
          <p:cNvPicPr/>
          <p:nvPr/>
        </p:nvPicPr>
        <p:blipFill>
          <a:blip r:embed="rId6"/>
          <a:stretch/>
        </p:blipFill>
        <p:spPr>
          <a:xfrm>
            <a:off x="760320" y="1073160"/>
            <a:ext cx="1981440" cy="31431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66" name="TextBox 3"/>
          <p:cNvSpPr/>
          <p:nvPr/>
        </p:nvSpPr>
        <p:spPr>
          <a:xfrm>
            <a:off x="602280" y="4373640"/>
            <a:ext cx="2995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nally, pages weav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emplates and component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ogether: a page specifie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 template and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are to fill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regions in that templat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A8218BE-A48A-4F69-B2E8-72F3989B402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9" name="Picture 2" descr=""/>
          <p:cNvPicPr/>
          <p:nvPr/>
        </p:nvPicPr>
        <p:blipFill>
          <a:blip r:embed="rId2"/>
          <a:stretch/>
        </p:blipFill>
        <p:spPr>
          <a:xfrm>
            <a:off x="1940040" y="762120"/>
            <a:ext cx="5010120" cy="54687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0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71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1AA55D-FD21-413B-A416-85EDEF0B386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3" name="Rectangle 3"/>
          <p:cNvSpPr/>
          <p:nvPr/>
        </p:nvSpPr>
        <p:spPr>
          <a:xfrm>
            <a:off x="1860480" y="1208160"/>
            <a:ext cx="2886120" cy="1350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C6AE374-FE94-4727-B534-B6FE4617176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76" name="Picture 4" descr=""/>
          <p:cNvPicPr/>
          <p:nvPr/>
        </p:nvPicPr>
        <p:blipFill>
          <a:blip r:embed="rId2"/>
          <a:stretch/>
        </p:blipFill>
        <p:spPr>
          <a:xfrm>
            <a:off x="1639800" y="779400"/>
            <a:ext cx="5291280" cy="58993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277" name="TextBox 6"/>
          <p:cNvSpPr/>
          <p:nvPr/>
        </p:nvSpPr>
        <p:spPr>
          <a:xfrm>
            <a:off x="130680" y="95724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ve-block.ftl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8" name="Rectangle 5"/>
          <p:cNvSpPr/>
          <p:nvPr/>
        </p:nvSpPr>
        <p:spPr>
          <a:xfrm>
            <a:off x="1860480" y="1444680"/>
            <a:ext cx="2425680" cy="2286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9" name="Rectangle 7"/>
          <p:cNvSpPr/>
          <p:nvPr/>
        </p:nvSpPr>
        <p:spPr>
          <a:xfrm>
            <a:off x="2013120" y="2085840"/>
            <a:ext cx="2116080" cy="6573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0" name="Rectangle 8"/>
          <p:cNvSpPr/>
          <p:nvPr/>
        </p:nvSpPr>
        <p:spPr>
          <a:xfrm>
            <a:off x="2471760" y="3200400"/>
            <a:ext cx="265284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1" name="Rectangle 9"/>
          <p:cNvSpPr/>
          <p:nvPr/>
        </p:nvSpPr>
        <p:spPr>
          <a:xfrm>
            <a:off x="2082960" y="5413320"/>
            <a:ext cx="2114280" cy="6429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2" name="Rectangle 10"/>
          <p:cNvSpPr/>
          <p:nvPr/>
        </p:nvSpPr>
        <p:spPr>
          <a:xfrm>
            <a:off x="2471760" y="4067280"/>
            <a:ext cx="277020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8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73C971-A372-4099-9CC1-0652C6B66B2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85" name="Picture 2" descr=""/>
          <p:cNvPicPr/>
          <p:nvPr/>
        </p:nvPicPr>
        <p:blipFill>
          <a:blip r:embed="rId2"/>
          <a:stretch/>
        </p:blipFill>
        <p:spPr>
          <a:xfrm>
            <a:off x="1874880" y="781200"/>
            <a:ext cx="5010120" cy="54702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286" name="Rectangle 4"/>
          <p:cNvSpPr/>
          <p:nvPr/>
        </p:nvSpPr>
        <p:spPr>
          <a:xfrm>
            <a:off x="1990800" y="1344600"/>
            <a:ext cx="4770360" cy="14637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ellyband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7" name="Rectangle 8"/>
          <p:cNvSpPr/>
          <p:nvPr/>
        </p:nvSpPr>
        <p:spPr>
          <a:xfrm>
            <a:off x="1990800" y="2863800"/>
            <a:ext cx="3141720" cy="18813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8" name="Rectangle 9"/>
          <p:cNvSpPr/>
          <p:nvPr/>
        </p:nvSpPr>
        <p:spPr>
          <a:xfrm>
            <a:off x="5253120" y="2863800"/>
            <a:ext cx="1508040" cy="14558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righ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9" name="Rectangle 10"/>
          <p:cNvSpPr/>
          <p:nvPr/>
        </p:nvSpPr>
        <p:spPr>
          <a:xfrm>
            <a:off x="1990800" y="48531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0" name="Rectangle 11"/>
          <p:cNvSpPr/>
          <p:nvPr/>
        </p:nvSpPr>
        <p:spPr>
          <a:xfrm>
            <a:off x="3560760" y="4861080"/>
            <a:ext cx="157176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1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92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E0A094-CE5B-48DD-BD8C-A1F932C7905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4" name="Rectangle 5"/>
          <p:cNvSpPr/>
          <p:nvPr/>
        </p:nvSpPr>
        <p:spPr>
          <a:xfrm>
            <a:off x="1982880" y="2449440"/>
            <a:ext cx="2636640" cy="843120"/>
          </a:xfrm>
          <a:prstGeom prst="rect">
            <a:avLst/>
          </a:prstGeom>
          <a:solidFill>
            <a:srgbClr val="ff0000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5" name="TextBox 3"/>
          <p:cNvSpPr/>
          <p:nvPr/>
        </p:nvSpPr>
        <p:spPr>
          <a:xfrm>
            <a:off x="4773960" y="2185920"/>
            <a:ext cx="22168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For example, the region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left1” is populated b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component “list/wide”.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is component accepts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 property named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collection” – in this case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value of that propert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is being set to “news.top”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6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7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BAB3DA-BF4F-4510-AD71-3DDB20D4B39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8" name="Rectangle 10"/>
          <p:cNvSpPr/>
          <p:nvPr/>
        </p:nvSpPr>
        <p:spPr>
          <a:xfrm>
            <a:off x="2098800" y="48513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9" name="Rectangle 11"/>
          <p:cNvSpPr/>
          <p:nvPr/>
        </p:nvSpPr>
        <p:spPr>
          <a:xfrm>
            <a:off x="3670200" y="4859280"/>
            <a:ext cx="1569960" cy="10400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0" name="Picture 5" descr=""/>
          <p:cNvPicPr/>
          <p:nvPr/>
        </p:nvPicPr>
        <p:blipFill>
          <a:blip r:embed="rId2"/>
          <a:stretch/>
        </p:blipFill>
        <p:spPr>
          <a:xfrm>
            <a:off x="179280" y="936720"/>
            <a:ext cx="7467840" cy="1807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1" name="Picture 7" descr=""/>
          <p:cNvPicPr/>
          <p:nvPr/>
        </p:nvPicPr>
        <p:blipFill>
          <a:blip r:embed="rId3"/>
          <a:stretch/>
        </p:blipFill>
        <p:spPr>
          <a:xfrm>
            <a:off x="179280" y="1685880"/>
            <a:ext cx="8550360" cy="4389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302" name="TextBox 6"/>
          <p:cNvSpPr/>
          <p:nvPr/>
        </p:nvSpPr>
        <p:spPr>
          <a:xfrm>
            <a:off x="5497920" y="631800"/>
            <a:ext cx="218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js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3" name="TextBox 16"/>
          <p:cNvSpPr/>
          <p:nvPr/>
        </p:nvSpPr>
        <p:spPr>
          <a:xfrm>
            <a:off x="5121360" y="1384200"/>
            <a:ext cx="258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html.ftl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4" name="TextBox 3"/>
          <p:cNvSpPr/>
          <p:nvPr/>
        </p:nvSpPr>
        <p:spPr>
          <a:xfrm>
            <a:off x="4383360" y="2643120"/>
            <a:ext cx="4073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“list/wide” component loads the named asse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collection (“news.top” in this example), and then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renders information about each asset in tha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sset collec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2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285920"/>
          </a:xfrm>
          <a:prstGeom prst="rect">
            <a:avLst/>
          </a:prstGeom>
          <a:ln w="0">
            <a:noFill/>
          </a:ln>
        </p:spPr>
      </p:pic>
      <p:sp>
        <p:nvSpPr>
          <p:cNvPr id="112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257EE2-FA37-4519-A2BE-2A099F6EA9C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/>
          </p:nvPr>
        </p:nvSpPr>
        <p:spPr>
          <a:xfrm>
            <a:off x="429840" y="1450800"/>
            <a:ext cx="8386920" cy="835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30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B2B73C5-9CE6-4AB6-A4CF-2EA0BFF956B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7" name="Picture 4" descr=""/>
          <p:cNvPicPr/>
          <p:nvPr/>
        </p:nvPicPr>
        <p:blipFill>
          <a:blip r:embed="rId2"/>
          <a:stretch/>
        </p:blipFill>
        <p:spPr>
          <a:xfrm>
            <a:off x="2476440" y="1028880"/>
            <a:ext cx="3895920" cy="43434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8" name="Picture 2" descr=""/>
          <p:cNvPicPr/>
          <p:nvPr/>
        </p:nvPicPr>
        <p:blipFill>
          <a:blip r:embed="rId3"/>
          <a:stretch/>
        </p:blipFill>
        <p:spPr>
          <a:xfrm>
            <a:off x="1982880" y="779400"/>
            <a:ext cx="5010120" cy="5470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309" name="Rectangle 8"/>
          <p:cNvSpPr/>
          <p:nvPr/>
        </p:nvSpPr>
        <p:spPr>
          <a:xfrm>
            <a:off x="2098800" y="2862360"/>
            <a:ext cx="3141360" cy="188100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0" name="Title 7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963720"/>
          </a:xfrm>
          <a:prstGeom prst="rect">
            <a:avLst/>
          </a:prstGeom>
          <a:ln w="0">
            <a:noFill/>
          </a:ln>
        </p:spPr>
      </p:pic>
      <p:sp>
        <p:nvSpPr>
          <p:cNvPr id="131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23E95AC-CA0D-4D63-AE37-A243D9201A2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/>
          </p:nvPr>
        </p:nvSpPr>
        <p:spPr>
          <a:xfrm>
            <a:off x="429840" y="906120"/>
            <a:ext cx="8386920" cy="7714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 fontScale="68000"/>
          </a:bodyPr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iki.alfresco.com/wiki/Web_Quick_Star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forums.alfresco.com/en/viewforum.php?f=52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witter: @Alfresco, @brian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13" name="Picture 1" descr=""/>
          <p:cNvPicPr/>
          <p:nvPr/>
        </p:nvPicPr>
        <p:blipFill>
          <a:blip r:embed="rId2"/>
          <a:stretch/>
        </p:blipFill>
        <p:spPr>
          <a:xfrm>
            <a:off x="1106640" y="2089080"/>
            <a:ext cx="3966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2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EF8B74-3DD8-4D96-8B06-EF708611234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27" name="Picture 5" descr="C:\Users\Brian\Documents\alfresco\cheetah\wcmqs-devguide\wcmqs-basic-model-cropped.png"/>
          <p:cNvPicPr/>
          <p:nvPr/>
        </p:nvPicPr>
        <p:blipFill>
          <a:blip r:embed="rId2"/>
          <a:stretch/>
        </p:blipFill>
        <p:spPr>
          <a:xfrm>
            <a:off x="487440" y="779400"/>
            <a:ext cx="8169120" cy="5211720"/>
          </a:xfrm>
          <a:prstGeom prst="rect">
            <a:avLst/>
          </a:prstGeom>
          <a:ln w="0">
            <a:noFill/>
          </a:ln>
        </p:spPr>
      </p:pic>
      <p:sp>
        <p:nvSpPr>
          <p:cNvPr id="1128" name="TextBox 3"/>
          <p:cNvSpPr/>
          <p:nvPr/>
        </p:nvSpPr>
        <p:spPr>
          <a:xfrm>
            <a:off x="1695960" y="190188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sit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9" name="TextBox 5"/>
          <p:cNvSpPr/>
          <p:nvPr/>
        </p:nvSpPr>
        <p:spPr>
          <a:xfrm>
            <a:off x="3441960" y="1881360"/>
            <a:ext cx="95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roo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0" name="TextBox 6"/>
          <p:cNvSpPr/>
          <p:nvPr/>
        </p:nvSpPr>
        <p:spPr>
          <a:xfrm>
            <a:off x="5343480" y="188136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s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1" name="TextBox 7"/>
          <p:cNvSpPr/>
          <p:nvPr/>
        </p:nvSpPr>
        <p:spPr>
          <a:xfrm>
            <a:off x="6683040" y="4216320"/>
            <a:ext cx="172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Coll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2" name="TextBox 8"/>
          <p:cNvSpPr/>
          <p:nvPr/>
        </p:nvSpPr>
        <p:spPr>
          <a:xfrm>
            <a:off x="3767040" y="4216320"/>
            <a:ext cx="105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3" name="TextBox 9"/>
          <p:cNvSpPr/>
          <p:nvPr/>
        </p:nvSpPr>
        <p:spPr>
          <a:xfrm>
            <a:off x="3573360" y="5732640"/>
            <a:ext cx="147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visitorFeedback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D35D6E-D6F5-43A0-AADF-6B5E74AAC5D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6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Groups of assets that are uniquely named within the scope of a particular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Stat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Editor control over which assets are includ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Dynam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onfigured with a search query, maximum number of results, and a refresh period in minutes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The query is executed periodically (as configured), and the results are placed in the asset collection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MIS and Lucene support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37" name="Picture 3" descr=""/>
          <p:cNvPicPr/>
          <p:nvPr/>
        </p:nvPicPr>
        <p:blipFill>
          <a:blip r:embed="rId2"/>
          <a:stretch/>
        </p:blipFill>
        <p:spPr>
          <a:xfrm>
            <a:off x="5214960" y="1058760"/>
            <a:ext cx="2790720" cy="158112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38" name="Picture 4" descr=""/>
          <p:cNvPicPr/>
          <p:nvPr/>
        </p:nvPicPr>
        <p:blipFill>
          <a:blip r:embed="rId3"/>
          <a:stretch/>
        </p:blipFill>
        <p:spPr>
          <a:xfrm>
            <a:off x="5138640" y="3067200"/>
            <a:ext cx="3009960" cy="2647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757391-7B7B-4E56-8AA9-F326AEC0C82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1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2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D391A93-8A5C-4244-9CE4-3AD3E0B103B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5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6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47" name="Picture 3" descr=""/>
          <p:cNvPicPr/>
          <p:nvPr/>
        </p:nvPicPr>
        <p:blipFill>
          <a:blip r:embed="rId3"/>
          <a:stretch/>
        </p:blipFill>
        <p:spPr>
          <a:xfrm>
            <a:off x="415800" y="3322800"/>
            <a:ext cx="6689880" cy="59688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90DD97-50A5-478C-BC45-BA5BB5E29BB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0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1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2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429713-5462-4E84-A191-18BCD1A99A1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4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5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56" name="Picture 2" descr=""/>
          <p:cNvPicPr/>
          <p:nvPr/>
        </p:nvPicPr>
        <p:blipFill>
          <a:blip r:embed="rId3"/>
          <a:stretch/>
        </p:blipFill>
        <p:spPr>
          <a:xfrm>
            <a:off x="179280" y="1131840"/>
            <a:ext cx="8829720" cy="471636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14:57:41Z</dcterms:created>
  <dc:creator>Linton Baddeley</dc:creator>
  <dc:description/>
  <dc:language>en-US</dc:language>
  <cp:lastModifiedBy>Brian Remmington</cp:lastModifiedBy>
  <cp:lastPrinted>2011-09-06T09:51:35Z</cp:lastPrinted>
  <dcterms:modified xsi:type="dcterms:W3CDTF">2011-09-09T08:28:58Z</dcterms:modified>
  <cp:revision>223</cp:revision>
  <dc:subject/>
  <dc:title>Slide 1</dc:title>
</cp:coreProperties>
</file>