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0B469-77D8-457B-9892-D47B081BF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3051B-12BE-45B0-9144-4A3E2CE27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67A7F-857C-4056-B22E-21CEE7139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2DBE8-DD4C-4B4C-B8A0-479BBEB7E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AFE47-E377-42CD-A55B-31BB2B0E3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1FF77-64AF-4CE8-9018-01F90CB72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F7AF8-3E68-4463-8D4F-54C59A99B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40189-21A2-4814-9591-29A016033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66AE7-EB93-40A7-B326-27F211694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D061E-3BEA-475A-A134-EEB63B367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276EB-7926-4A32-9D0E-4DF0A0E37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28576-A403-4623-AD38-5B718479E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5C7C0-CAE1-481C-8C5F-F885F91724E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2</cp:lastModifiedBy>
  <dcterms:modified xsi:type="dcterms:W3CDTF">2013-08-30T08:28:15Z</dcterms:modified>
  <cp:revision>3</cp:revision>
  <dc:subject/>
  <dc:title>Test content</dc:title>
</cp:coreProperties>
</file>