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4B39F-33FC-45C8-8587-AA0A248CA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4EAB8-143C-45B9-9C04-1C7588D62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97FFD-DA6D-46AF-AF58-9946AD526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3C657-1FF9-4FC4-B085-1C0A04A65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5BAA6-428C-4D36-B250-CF527CA35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DC714-3901-43CE-91DC-BF9180472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1BAB5-140D-4F36-93BB-0D7ADA51F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9710D-5605-4554-8228-859BE9940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E32F6-E40A-4CEC-A145-B3B5A162F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7FBC7-2945-4946-BFCB-252BCF646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17CA5-9CA2-47C0-98E2-482CEB255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10DDD-9F1E-41C4-B162-4F0D7794A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1D179-79D0-462A-8FC3-BFAF70889D4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2</cp:lastModifiedBy>
  <dcterms:modified xsi:type="dcterms:W3CDTF">2013-08-30T08:28:15Z</dcterms:modified>
  <cp:revision>3</cp:revision>
  <dc:subject/>
  <dc:title>Test content</dc:title>
</cp:coreProperties>
</file>