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7144E-2C1A-4188-94ED-EFAD1FC4C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6FC1F-3FB3-4430-878D-85DFF4C37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A6CDC-F5F8-4144-BB5F-079A67E90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AF6D8-BC79-4005-BDCE-4D741084D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E22CC-0622-4426-BC2D-C8379A032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9BED9-00E0-4976-9C6E-D1FF6B6C7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6354D-BCE8-4226-BF6C-5AEB8A30A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51716-9B49-4D86-A800-06B1FAA74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726E4-AB17-42A8-82B6-27327245A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42BBF-F359-47BD-9828-631FF21D3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7A394-B13B-43FD-BC11-D44B6A7F0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CD5E3-B0AD-4B70-AE76-9E28E7D41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FC5AE-3C8F-44E7-A6D4-190EE652CEF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28Z</dcterms:modified>
  <cp:revision>5</cp:revision>
  <dc:subject/>
  <dc:title>Test content</dc:title>
</cp:coreProperties>
</file>